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62E-859E-45E7-8B6C-DA5D490B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420-D392-42D2-AB5C-B9000BE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A06-6E4A-4E5B-A10E-4C489BC5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2CA4-1518-427C-8E45-883FFCC0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BF2-D8A8-4F12-830D-4178158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948-A9BD-4F9B-B64E-A12C15BC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6BC-4214-4892-98D8-252A264A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FC4-93A9-4967-956C-73C31AD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D93-3787-4C59-97C3-ACEF354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121-D428-4FE3-8057-F6608AF3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6BE-530C-46DD-8013-8450940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025-E885-4CB0-B5F2-413A7236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F5A5-E589-47BD-B76C-FA85F2223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mber line ranging from -20 to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the integers described below and place on your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puppy gained 3 pounds this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birdfeeder hung in the tree 6 feet above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water level of the pond decreased 12 centimeters last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28920" y="626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747" y="17413"/>
                </a:moveTo>
                <a:lnTo>
                  <a:pt x="6747" y="17413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8240" y="5384880"/>
            <a:ext cx="7902720" cy="268200"/>
          </a:xfrm>
          <a:custGeom>
            <a:avLst/>
            <a:gdLst/>
            <a:ahLst/>
            <a:rect l="l" t="t" r="r" b="b"/>
            <a:pathLst>
              <a:path w="21953" h="745">
                <a:moveTo>
                  <a:pt x="2133" y="15701"/>
                </a:moveTo>
                <a:cubicBezTo>
                  <a:pt x="2281" y="15695"/>
                  <a:pt x="2448" y="15678"/>
                  <a:pt x="2604" y="15677"/>
                </a:cubicBezTo>
                <a:cubicBezTo>
                  <a:pt x="3318" y="15672"/>
                  <a:pt x="4026" y="15606"/>
                  <a:pt x="4738" y="15602"/>
                </a:cubicBezTo>
                <a:cubicBezTo>
                  <a:pt x="5185" y="15599"/>
                  <a:pt x="5629" y="15564"/>
                  <a:pt x="6077" y="15577"/>
                </a:cubicBezTo>
                <a:cubicBezTo>
                  <a:pt x="6326" y="15584"/>
                  <a:pt x="6573" y="15620"/>
                  <a:pt x="6821" y="15627"/>
                </a:cubicBezTo>
                <a:cubicBezTo>
                  <a:pt x="7491" y="15645"/>
                  <a:pt x="8159" y="15652"/>
                  <a:pt x="8830" y="15652"/>
                </a:cubicBezTo>
                <a:cubicBezTo>
                  <a:pt x="9201" y="15652"/>
                  <a:pt x="9574" y="15672"/>
                  <a:pt x="9947" y="15652"/>
                </a:cubicBezTo>
                <a:cubicBezTo>
                  <a:pt x="10298" y="15634"/>
                  <a:pt x="10639" y="15559"/>
                  <a:pt x="10988" y="15528"/>
                </a:cubicBezTo>
                <a:cubicBezTo>
                  <a:pt x="11520" y="15480"/>
                  <a:pt x="12066" y="15442"/>
                  <a:pt x="12601" y="15429"/>
                </a:cubicBezTo>
                <a:cubicBezTo>
                  <a:pt x="12965" y="15420"/>
                  <a:pt x="13328" y="15409"/>
                  <a:pt x="13692" y="15404"/>
                </a:cubicBezTo>
                <a:cubicBezTo>
                  <a:pt x="14801" y="15388"/>
                  <a:pt x="15907" y="15429"/>
                  <a:pt x="17016" y="15429"/>
                </a:cubicBezTo>
                <a:cubicBezTo>
                  <a:pt x="17489" y="15429"/>
                  <a:pt x="17958" y="15400"/>
                  <a:pt x="18430" y="15379"/>
                </a:cubicBezTo>
                <a:cubicBezTo>
                  <a:pt x="19098" y="15349"/>
                  <a:pt x="19770" y="15340"/>
                  <a:pt x="20439" y="15329"/>
                </a:cubicBezTo>
                <a:cubicBezTo>
                  <a:pt x="20762" y="15324"/>
                  <a:pt x="21083" y="15309"/>
                  <a:pt x="21406" y="15304"/>
                </a:cubicBezTo>
                <a:cubicBezTo>
                  <a:pt x="21994" y="15294"/>
                  <a:pt x="22580" y="15284"/>
                  <a:pt x="23168" y="15280"/>
                </a:cubicBezTo>
                <a:cubicBezTo>
                  <a:pt x="23476" y="15278"/>
                  <a:pt x="23779" y="15267"/>
                  <a:pt x="24085" y="15255"/>
                </a:cubicBezTo>
              </a:path>
              <a:path w="21953" h="745">
                <a:moveTo>
                  <a:pt x="23812" y="14957"/>
                </a:moveTo>
                <a:cubicBezTo>
                  <a:pt x="23877" y="15014"/>
                  <a:pt x="24107" y="15129"/>
                  <a:pt x="24085" y="15230"/>
                </a:cubicBezTo>
                <a:cubicBezTo>
                  <a:pt x="24073" y="15286"/>
                  <a:pt x="23943" y="15419"/>
                  <a:pt x="23912" y="15478"/>
                </a:cubicBezTo>
                <a:cubicBezTo>
                  <a:pt x="23904" y="15495"/>
                  <a:pt x="23895" y="15511"/>
                  <a:pt x="23887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1880" y="5581800"/>
            <a:ext cx="14436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2257" y="15503"/>
                </a:moveTo>
                <a:cubicBezTo>
                  <a:pt x="2197" y="15614"/>
                  <a:pt x="2126" y="15684"/>
                  <a:pt x="2034" y="15776"/>
                </a:cubicBezTo>
                <a:cubicBezTo>
                  <a:pt x="2170" y="15857"/>
                  <a:pt x="2309" y="15924"/>
                  <a:pt x="2431" y="160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5419800"/>
            <a:ext cx="204840" cy="384120"/>
          </a:xfrm>
          <a:custGeom>
            <a:avLst/>
            <a:gdLst/>
            <a:ahLst/>
            <a:rect l="l" t="t" r="r" b="b"/>
            <a:pathLst>
              <a:path w="571" h="1068">
                <a:moveTo>
                  <a:pt x="20042" y="15056"/>
                </a:moveTo>
                <a:cubicBezTo>
                  <a:pt x="20067" y="15215"/>
                  <a:pt x="20121" y="15368"/>
                  <a:pt x="20141" y="15528"/>
                </a:cubicBezTo>
              </a:path>
              <a:path w="571" h="1068">
                <a:moveTo>
                  <a:pt x="20017" y="15776"/>
                </a:moveTo>
                <a:cubicBezTo>
                  <a:pt x="19996" y="15885"/>
                  <a:pt x="19993" y="15986"/>
                  <a:pt x="19993" y="16098"/>
                </a:cubicBezTo>
              </a:path>
              <a:path w="571" h="1068">
                <a:moveTo>
                  <a:pt x="20290" y="15726"/>
                </a:moveTo>
                <a:cubicBezTo>
                  <a:pt x="20197" y="15797"/>
                  <a:pt x="20179" y="15791"/>
                  <a:pt x="20166" y="15925"/>
                </a:cubicBezTo>
                <a:cubicBezTo>
                  <a:pt x="20302" y="15910"/>
                  <a:pt x="20398" y="15886"/>
                  <a:pt x="20538" y="15900"/>
                </a:cubicBezTo>
                <a:cubicBezTo>
                  <a:pt x="20555" y="16119"/>
                  <a:pt x="20461" y="16107"/>
                  <a:pt x="20265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10360" y="5402160"/>
            <a:ext cx="384480" cy="482760"/>
          </a:xfrm>
          <a:custGeom>
            <a:avLst/>
            <a:gdLst/>
            <a:ahLst/>
            <a:rect l="l" t="t" r="r" b="b"/>
            <a:pathLst>
              <a:path w="1067" h="1340">
                <a:moveTo>
                  <a:pt x="23118" y="15007"/>
                </a:moveTo>
                <a:cubicBezTo>
                  <a:pt x="23094" y="15174"/>
                  <a:pt x="23072" y="15332"/>
                  <a:pt x="23068" y="15503"/>
                </a:cubicBezTo>
                <a:cubicBezTo>
                  <a:pt x="23068" y="15581"/>
                  <a:pt x="23053" y="15599"/>
                  <a:pt x="23093" y="15627"/>
                </a:cubicBezTo>
              </a:path>
              <a:path w="1067" h="1340">
                <a:moveTo>
                  <a:pt x="22250" y="16024"/>
                </a:moveTo>
                <a:cubicBezTo>
                  <a:pt x="22391" y="15991"/>
                  <a:pt x="22527" y="15959"/>
                  <a:pt x="22671" y="15949"/>
                </a:cubicBezTo>
                <a:cubicBezTo>
                  <a:pt x="22624" y="16104"/>
                  <a:pt x="22507" y="16189"/>
                  <a:pt x="22374" y="16297"/>
                </a:cubicBezTo>
                <a:cubicBezTo>
                  <a:pt x="22440" y="16383"/>
                  <a:pt x="22566" y="16338"/>
                  <a:pt x="22671" y="16321"/>
                </a:cubicBezTo>
                <a:cubicBezTo>
                  <a:pt x="22796" y="16301"/>
                  <a:pt x="22823" y="16300"/>
                  <a:pt x="22895" y="16272"/>
                </a:cubicBezTo>
              </a:path>
              <a:path w="1067" h="1340">
                <a:moveTo>
                  <a:pt x="23168" y="15900"/>
                </a:moveTo>
                <a:cubicBezTo>
                  <a:pt x="23068" y="15956"/>
                  <a:pt x="22952" y="16001"/>
                  <a:pt x="22920" y="16123"/>
                </a:cubicBezTo>
                <a:cubicBezTo>
                  <a:pt x="22920" y="16156"/>
                  <a:pt x="22920" y="16189"/>
                  <a:pt x="22920" y="16222"/>
                </a:cubicBezTo>
                <a:cubicBezTo>
                  <a:pt x="23022" y="16307"/>
                  <a:pt x="23254" y="16355"/>
                  <a:pt x="23316" y="16148"/>
                </a:cubicBezTo>
                <a:cubicBezTo>
                  <a:pt x="23344" y="16054"/>
                  <a:pt x="23221" y="15978"/>
                  <a:pt x="23168" y="159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8240" y="5545080"/>
            <a:ext cx="393840" cy="455760"/>
          </a:xfrm>
          <a:custGeom>
            <a:avLst/>
            <a:gdLst/>
            <a:ahLst/>
            <a:rect l="l" t="t" r="r" b="b"/>
            <a:pathLst>
              <a:path w="1093" h="1266">
                <a:moveTo>
                  <a:pt x="2729" y="15429"/>
                </a:moveTo>
                <a:cubicBezTo>
                  <a:pt x="2729" y="15464"/>
                  <a:pt x="2729" y="15750"/>
                  <a:pt x="2729" y="15875"/>
                </a:cubicBezTo>
                <a:cubicBezTo>
                  <a:pt x="2729" y="15892"/>
                  <a:pt x="2729" y="15908"/>
                  <a:pt x="2729" y="15925"/>
                </a:cubicBezTo>
              </a:path>
              <a:path w="1093" h="1266">
                <a:moveTo>
                  <a:pt x="2133" y="16470"/>
                </a:moveTo>
                <a:cubicBezTo>
                  <a:pt x="2213" y="16454"/>
                  <a:pt x="2316" y="16460"/>
                  <a:pt x="2381" y="16421"/>
                </a:cubicBezTo>
              </a:path>
              <a:path w="1093" h="1266">
                <a:moveTo>
                  <a:pt x="2555" y="16297"/>
                </a:moveTo>
                <a:cubicBezTo>
                  <a:pt x="2629" y="16278"/>
                  <a:pt x="2636" y="16270"/>
                  <a:pt x="2679" y="16272"/>
                </a:cubicBezTo>
                <a:cubicBezTo>
                  <a:pt x="2706" y="16443"/>
                  <a:pt x="2631" y="16503"/>
                  <a:pt x="2530" y="16644"/>
                </a:cubicBezTo>
                <a:cubicBezTo>
                  <a:pt x="2615" y="16665"/>
                  <a:pt x="2706" y="16633"/>
                  <a:pt x="2803" y="16619"/>
                </a:cubicBezTo>
              </a:path>
              <a:path w="1093" h="1266">
                <a:moveTo>
                  <a:pt x="3026" y="16346"/>
                </a:moveTo>
                <a:cubicBezTo>
                  <a:pt x="2961" y="16385"/>
                  <a:pt x="2849" y="16529"/>
                  <a:pt x="2927" y="16619"/>
                </a:cubicBezTo>
                <a:cubicBezTo>
                  <a:pt x="3045" y="16755"/>
                  <a:pt x="3220" y="16605"/>
                  <a:pt x="3225" y="16470"/>
                </a:cubicBezTo>
                <a:cubicBezTo>
                  <a:pt x="3229" y="16361"/>
                  <a:pt x="3058" y="16378"/>
                  <a:pt x="3001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0120" y="5599080"/>
            <a:ext cx="312840" cy="357120"/>
          </a:xfrm>
          <a:custGeom>
            <a:avLst/>
            <a:gdLst/>
            <a:ahLst/>
            <a:rect l="l" t="t" r="r" b="b"/>
            <a:pathLst>
              <a:path w="869" h="993">
                <a:moveTo>
                  <a:pt x="4638" y="15602"/>
                </a:moveTo>
                <a:cubicBezTo>
                  <a:pt x="4630" y="15586"/>
                  <a:pt x="4622" y="15569"/>
                  <a:pt x="4614" y="15553"/>
                </a:cubicBezTo>
                <a:cubicBezTo>
                  <a:pt x="4635" y="15668"/>
                  <a:pt x="4672" y="15789"/>
                  <a:pt x="4713" y="15900"/>
                </a:cubicBezTo>
              </a:path>
              <a:path w="869" h="993">
                <a:moveTo>
                  <a:pt x="4167" y="16098"/>
                </a:moveTo>
                <a:cubicBezTo>
                  <a:pt x="4196" y="16120"/>
                  <a:pt x="4254" y="16123"/>
                  <a:pt x="4316" y="16123"/>
                </a:cubicBezTo>
              </a:path>
              <a:path w="869" h="993">
                <a:moveTo>
                  <a:pt x="4614" y="16148"/>
                </a:moveTo>
                <a:cubicBezTo>
                  <a:pt x="4620" y="16264"/>
                  <a:pt x="4632" y="16379"/>
                  <a:pt x="4638" y="16495"/>
                </a:cubicBezTo>
              </a:path>
              <a:path w="869" h="993">
                <a:moveTo>
                  <a:pt x="4961" y="16073"/>
                </a:moveTo>
                <a:cubicBezTo>
                  <a:pt x="4918" y="16142"/>
                  <a:pt x="4843" y="16177"/>
                  <a:pt x="4837" y="16247"/>
                </a:cubicBezTo>
                <a:cubicBezTo>
                  <a:pt x="4837" y="16313"/>
                  <a:pt x="4837" y="16330"/>
                  <a:pt x="4837" y="16371"/>
                </a:cubicBezTo>
                <a:cubicBezTo>
                  <a:pt x="4913" y="16303"/>
                  <a:pt x="4920" y="16286"/>
                  <a:pt x="5011" y="16297"/>
                </a:cubicBezTo>
                <a:cubicBezTo>
                  <a:pt x="5069" y="16416"/>
                  <a:pt x="4998" y="16466"/>
                  <a:pt x="491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3160" y="5249880"/>
            <a:ext cx="331920" cy="438120"/>
          </a:xfrm>
          <a:custGeom>
            <a:avLst/>
            <a:gdLst/>
            <a:ahLst/>
            <a:rect l="l" t="t" r="r" b="b"/>
            <a:pathLst>
              <a:path w="919" h="1217">
                <a:moveTo>
                  <a:pt x="6276" y="15553"/>
                </a:moveTo>
                <a:cubicBezTo>
                  <a:pt x="6145" y="15569"/>
                  <a:pt x="6145" y="15602"/>
                  <a:pt x="6127" y="15726"/>
                </a:cubicBezTo>
                <a:cubicBezTo>
                  <a:pt x="6162" y="15816"/>
                  <a:pt x="6266" y="15702"/>
                  <a:pt x="6251" y="15627"/>
                </a:cubicBezTo>
                <a:cubicBezTo>
                  <a:pt x="6220" y="15468"/>
                  <a:pt x="6089" y="15534"/>
                  <a:pt x="6052" y="15627"/>
                </a:cubicBezTo>
                <a:cubicBezTo>
                  <a:pt x="5994" y="15774"/>
                  <a:pt x="6123" y="15904"/>
                  <a:pt x="6201" y="15726"/>
                </a:cubicBezTo>
                <a:cubicBezTo>
                  <a:pt x="6209" y="15685"/>
                  <a:pt x="6218" y="15643"/>
                  <a:pt x="6226" y="15602"/>
                </a:cubicBezTo>
                <a:cubicBezTo>
                  <a:pt x="6114" y="15519"/>
                  <a:pt x="6050" y="15610"/>
                  <a:pt x="6127" y="15726"/>
                </a:cubicBezTo>
                <a:cubicBezTo>
                  <a:pt x="6143" y="15734"/>
                  <a:pt x="6160" y="15743"/>
                  <a:pt x="6176" y="15751"/>
                </a:cubicBezTo>
              </a:path>
              <a:path w="919" h="1217">
                <a:moveTo>
                  <a:pt x="5482" y="15106"/>
                </a:moveTo>
                <a:cubicBezTo>
                  <a:pt x="5555" y="15069"/>
                  <a:pt x="5560" y="15052"/>
                  <a:pt x="5606" y="15056"/>
                </a:cubicBezTo>
              </a:path>
              <a:path w="919" h="1217">
                <a:moveTo>
                  <a:pt x="5730" y="14709"/>
                </a:moveTo>
                <a:cubicBezTo>
                  <a:pt x="5804" y="14825"/>
                  <a:pt x="5882" y="14939"/>
                  <a:pt x="5953" y="15056"/>
                </a:cubicBezTo>
              </a:path>
              <a:path w="919" h="1217">
                <a:moveTo>
                  <a:pt x="5953" y="14684"/>
                </a:moveTo>
                <a:cubicBezTo>
                  <a:pt x="6032" y="14579"/>
                  <a:pt x="6162" y="14532"/>
                  <a:pt x="6201" y="14734"/>
                </a:cubicBezTo>
                <a:cubicBezTo>
                  <a:pt x="6214" y="14800"/>
                  <a:pt x="6151" y="14921"/>
                  <a:pt x="6127" y="14982"/>
                </a:cubicBezTo>
                <a:cubicBezTo>
                  <a:pt x="6220" y="14943"/>
                  <a:pt x="6310" y="14903"/>
                  <a:pt x="6400" y="148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57280" y="5562720"/>
            <a:ext cx="330480" cy="420480"/>
          </a:xfrm>
          <a:custGeom>
            <a:avLst/>
            <a:gdLst/>
            <a:ahLst/>
            <a:rect l="l" t="t" r="r" b="b"/>
            <a:pathLst>
              <a:path w="919" h="1167">
                <a:moveTo>
                  <a:pt x="6921" y="15453"/>
                </a:moveTo>
                <a:cubicBezTo>
                  <a:pt x="6942" y="15619"/>
                  <a:pt x="6970" y="15782"/>
                  <a:pt x="6970" y="15949"/>
                </a:cubicBezTo>
              </a:path>
              <a:path w="919" h="1167">
                <a:moveTo>
                  <a:pt x="6548" y="16321"/>
                </a:moveTo>
                <a:cubicBezTo>
                  <a:pt x="6614" y="16321"/>
                  <a:pt x="6681" y="16321"/>
                  <a:pt x="6747" y="16321"/>
                </a:cubicBezTo>
              </a:path>
              <a:path w="919" h="1167">
                <a:moveTo>
                  <a:pt x="6970" y="16173"/>
                </a:moveTo>
                <a:cubicBezTo>
                  <a:pt x="6970" y="16309"/>
                  <a:pt x="6957" y="16436"/>
                  <a:pt x="6945" y="16570"/>
                </a:cubicBezTo>
                <a:cubicBezTo>
                  <a:pt x="6945" y="16586"/>
                  <a:pt x="6945" y="16603"/>
                  <a:pt x="6945" y="16619"/>
                </a:cubicBezTo>
              </a:path>
              <a:path w="919" h="1167">
                <a:moveTo>
                  <a:pt x="7243" y="16247"/>
                </a:moveTo>
                <a:cubicBezTo>
                  <a:pt x="7163" y="16327"/>
                  <a:pt x="7146" y="16407"/>
                  <a:pt x="7169" y="16520"/>
                </a:cubicBezTo>
                <a:cubicBezTo>
                  <a:pt x="7336" y="16551"/>
                  <a:pt x="7410" y="16507"/>
                  <a:pt x="7466" y="16346"/>
                </a:cubicBezTo>
                <a:cubicBezTo>
                  <a:pt x="7490" y="16278"/>
                  <a:pt x="7284" y="16259"/>
                  <a:pt x="7243" y="162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2000" y="5572080"/>
            <a:ext cx="214200" cy="322200"/>
          </a:xfrm>
          <a:custGeom>
            <a:avLst/>
            <a:gdLst/>
            <a:ahLst/>
            <a:rect l="l" t="t" r="r" b="b"/>
            <a:pathLst>
              <a:path w="596" h="894">
                <a:moveTo>
                  <a:pt x="9674" y="15503"/>
                </a:moveTo>
                <a:cubicBezTo>
                  <a:pt x="9657" y="15495"/>
                  <a:pt x="9641" y="15486"/>
                  <a:pt x="9624" y="15478"/>
                </a:cubicBezTo>
                <a:cubicBezTo>
                  <a:pt x="9602" y="15622"/>
                  <a:pt x="9639" y="15773"/>
                  <a:pt x="9649" y="15925"/>
                </a:cubicBezTo>
              </a:path>
              <a:path w="596" h="894">
                <a:moveTo>
                  <a:pt x="9451" y="16197"/>
                </a:moveTo>
                <a:cubicBezTo>
                  <a:pt x="9530" y="16138"/>
                  <a:pt x="9538" y="16113"/>
                  <a:pt x="9599" y="16123"/>
                </a:cubicBezTo>
              </a:path>
              <a:path w="596" h="894">
                <a:moveTo>
                  <a:pt x="9996" y="15974"/>
                </a:moveTo>
                <a:cubicBezTo>
                  <a:pt x="9912" y="16030"/>
                  <a:pt x="9829" y="16070"/>
                  <a:pt x="9773" y="16148"/>
                </a:cubicBezTo>
                <a:cubicBezTo>
                  <a:pt x="9888" y="16119"/>
                  <a:pt x="9907" y="16083"/>
                  <a:pt x="10021" y="16173"/>
                </a:cubicBezTo>
                <a:cubicBezTo>
                  <a:pt x="10142" y="16268"/>
                  <a:pt x="9892" y="16349"/>
                  <a:pt x="9847" y="163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05680" y="375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239" y="10443"/>
                </a:moveTo>
                <a:lnTo>
                  <a:pt x="17239" y="104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59800" y="2482920"/>
            <a:ext cx="428400" cy="32220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21704" y="6945"/>
                </a:moveTo>
                <a:cubicBezTo>
                  <a:pt x="21639" y="7141"/>
                  <a:pt x="21471" y="7421"/>
                  <a:pt x="21580" y="7640"/>
                </a:cubicBezTo>
                <a:cubicBezTo>
                  <a:pt x="21635" y="7751"/>
                  <a:pt x="21781" y="7753"/>
                  <a:pt x="21878" y="7789"/>
                </a:cubicBezTo>
              </a:path>
              <a:path w="1192" h="894">
                <a:moveTo>
                  <a:pt x="21903" y="7119"/>
                </a:moveTo>
                <a:cubicBezTo>
                  <a:pt x="21963" y="7096"/>
                  <a:pt x="22161" y="6968"/>
                  <a:pt x="22151" y="7094"/>
                </a:cubicBezTo>
                <a:cubicBezTo>
                  <a:pt x="22142" y="7207"/>
                  <a:pt x="22085" y="7237"/>
                  <a:pt x="22002" y="7293"/>
                </a:cubicBezTo>
                <a:cubicBezTo>
                  <a:pt x="22120" y="7245"/>
                  <a:pt x="22352" y="7223"/>
                  <a:pt x="22275" y="7441"/>
                </a:cubicBezTo>
                <a:cubicBezTo>
                  <a:pt x="22214" y="7613"/>
                  <a:pt x="22067" y="7601"/>
                  <a:pt x="21927" y="7615"/>
                </a:cubicBezTo>
              </a:path>
              <a:path w="1192" h="894">
                <a:moveTo>
                  <a:pt x="22250" y="6896"/>
                </a:moveTo>
                <a:cubicBezTo>
                  <a:pt x="22511" y="6974"/>
                  <a:pt x="22833" y="7083"/>
                  <a:pt x="22746" y="7441"/>
                </a:cubicBezTo>
                <a:cubicBezTo>
                  <a:pt x="22702" y="7623"/>
                  <a:pt x="22569" y="7671"/>
                  <a:pt x="22423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4040" y="3544920"/>
            <a:ext cx="446040" cy="312840"/>
          </a:xfrm>
          <a:custGeom>
            <a:avLst/>
            <a:gdLst/>
            <a:ahLst/>
            <a:rect l="l" t="t" r="r" b="b"/>
            <a:pathLst>
              <a:path w="1241" h="870">
                <a:moveTo>
                  <a:pt x="8136" y="9971"/>
                </a:moveTo>
                <a:cubicBezTo>
                  <a:pt x="8062" y="10149"/>
                  <a:pt x="7943" y="10443"/>
                  <a:pt x="8111" y="10592"/>
                </a:cubicBezTo>
                <a:cubicBezTo>
                  <a:pt x="8219" y="10657"/>
                  <a:pt x="8246" y="10671"/>
                  <a:pt x="8310" y="10716"/>
                </a:cubicBezTo>
              </a:path>
              <a:path w="1241" h="870">
                <a:moveTo>
                  <a:pt x="8508" y="9996"/>
                </a:moveTo>
                <a:cubicBezTo>
                  <a:pt x="8484" y="10208"/>
                  <a:pt x="8467" y="10350"/>
                  <a:pt x="8558" y="10542"/>
                </a:cubicBezTo>
                <a:cubicBezTo>
                  <a:pt x="8744" y="10499"/>
                  <a:pt x="8786" y="10396"/>
                  <a:pt x="8855" y="10220"/>
                </a:cubicBezTo>
                <a:cubicBezTo>
                  <a:pt x="8734" y="10179"/>
                  <a:pt x="8669" y="10192"/>
                  <a:pt x="8682" y="10344"/>
                </a:cubicBezTo>
                <a:cubicBezTo>
                  <a:pt x="8690" y="10377"/>
                  <a:pt x="8698" y="10410"/>
                  <a:pt x="8706" y="10443"/>
                </a:cubicBezTo>
              </a:path>
              <a:path w="1241" h="870">
                <a:moveTo>
                  <a:pt x="8830" y="9847"/>
                </a:moveTo>
                <a:cubicBezTo>
                  <a:pt x="9046" y="9979"/>
                  <a:pt x="9319" y="10106"/>
                  <a:pt x="9277" y="10418"/>
                </a:cubicBezTo>
                <a:cubicBezTo>
                  <a:pt x="9207" y="10559"/>
                  <a:pt x="9188" y="10603"/>
                  <a:pt x="9103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1800" y="5438880"/>
            <a:ext cx="17280" cy="268200"/>
          </a:xfrm>
          <a:custGeom>
            <a:avLst/>
            <a:gdLst/>
            <a:ahLst/>
            <a:rect l="l" t="t" r="r" b="b"/>
            <a:pathLst>
              <a:path w="50" h="745">
                <a:moveTo>
                  <a:pt x="12278" y="15106"/>
                </a:moveTo>
                <a:cubicBezTo>
                  <a:pt x="12309" y="15350"/>
                  <a:pt x="12280" y="15558"/>
                  <a:pt x="12254" y="15801"/>
                </a:cubicBezTo>
                <a:cubicBezTo>
                  <a:pt x="12254" y="15817"/>
                  <a:pt x="12254" y="15834"/>
                  <a:pt x="12254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67160" y="5857920"/>
            <a:ext cx="142920" cy="169920"/>
          </a:xfrm>
          <a:custGeom>
            <a:avLst/>
            <a:gdLst/>
            <a:ahLst/>
            <a:rect l="l" t="t" r="r" b="b"/>
            <a:pathLst>
              <a:path w="398" h="472">
                <a:moveTo>
                  <a:pt x="12378" y="16321"/>
                </a:moveTo>
                <a:cubicBezTo>
                  <a:pt x="12247" y="16264"/>
                  <a:pt x="12145" y="16406"/>
                  <a:pt x="12129" y="16570"/>
                </a:cubicBezTo>
                <a:cubicBezTo>
                  <a:pt x="12104" y="16826"/>
                  <a:pt x="12422" y="16741"/>
                  <a:pt x="12502" y="16594"/>
                </a:cubicBezTo>
                <a:cubicBezTo>
                  <a:pt x="12575" y="16459"/>
                  <a:pt x="12501" y="16389"/>
                  <a:pt x="12427" y="162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2240" y="5491080"/>
            <a:ext cx="9720" cy="15264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7810" y="15255"/>
                </a:moveTo>
                <a:cubicBezTo>
                  <a:pt x="17789" y="15398"/>
                  <a:pt x="17785" y="15532"/>
                  <a:pt x="17785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69040" y="5803920"/>
            <a:ext cx="17640" cy="206280"/>
          </a:xfrm>
          <a:custGeom>
            <a:avLst/>
            <a:gdLst/>
            <a:ahLst/>
            <a:rect l="l" t="t" r="r" b="b"/>
            <a:pathLst>
              <a:path w="50" h="572">
                <a:moveTo>
                  <a:pt x="17413" y="16123"/>
                </a:moveTo>
                <a:cubicBezTo>
                  <a:pt x="17444" y="16317"/>
                  <a:pt x="17462" y="16498"/>
                  <a:pt x="17462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92880" y="5840280"/>
            <a:ext cx="144360" cy="13356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7859" y="16247"/>
                </a:moveTo>
                <a:cubicBezTo>
                  <a:pt x="17792" y="16302"/>
                  <a:pt x="17719" y="16444"/>
                  <a:pt x="17785" y="16545"/>
                </a:cubicBezTo>
                <a:cubicBezTo>
                  <a:pt x="17874" y="16681"/>
                  <a:pt x="18086" y="16578"/>
                  <a:pt x="18157" y="16520"/>
                </a:cubicBezTo>
                <a:cubicBezTo>
                  <a:pt x="18122" y="16319"/>
                  <a:pt x="18078" y="16283"/>
                  <a:pt x="17884" y="162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3800" y="5464080"/>
            <a:ext cx="27000" cy="189000"/>
          </a:xfrm>
          <a:custGeom>
            <a:avLst/>
            <a:gdLst/>
            <a:ahLst/>
            <a:rect l="l" t="t" r="r" b="b"/>
            <a:pathLst>
              <a:path w="76" h="522">
                <a:moveTo>
                  <a:pt x="15230" y="15354"/>
                </a:moveTo>
                <a:cubicBezTo>
                  <a:pt x="15204" y="15293"/>
                  <a:pt x="15205" y="15295"/>
                  <a:pt x="15205" y="15230"/>
                </a:cubicBezTo>
                <a:cubicBezTo>
                  <a:pt x="15205" y="15137"/>
                  <a:pt x="15235" y="15538"/>
                  <a:pt x="15255" y="15627"/>
                </a:cubicBezTo>
                <a:cubicBezTo>
                  <a:pt x="15263" y="15652"/>
                  <a:pt x="15272" y="15676"/>
                  <a:pt x="15280" y="157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3160" y="5742000"/>
            <a:ext cx="142920" cy="1332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5379" y="15949"/>
                </a:moveTo>
                <a:cubicBezTo>
                  <a:pt x="15301" y="15975"/>
                  <a:pt x="15274" y="15986"/>
                  <a:pt x="15255" y="16049"/>
                </a:cubicBezTo>
                <a:cubicBezTo>
                  <a:pt x="15230" y="16120"/>
                  <a:pt x="15394" y="16006"/>
                  <a:pt x="15478" y="16024"/>
                </a:cubicBezTo>
                <a:cubicBezTo>
                  <a:pt x="15659" y="16064"/>
                  <a:pt x="15667" y="16233"/>
                  <a:pt x="15503" y="16297"/>
                </a:cubicBezTo>
                <a:cubicBezTo>
                  <a:pt x="15392" y="16340"/>
                  <a:pt x="15329" y="16311"/>
                  <a:pt x="15230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5080" y="5776920"/>
            <a:ext cx="63720" cy="19080"/>
          </a:xfrm>
          <a:custGeom>
            <a:avLst/>
            <a:gdLst/>
            <a:ahLst/>
            <a:rect l="l" t="t" r="r" b="b"/>
            <a:pathLst>
              <a:path w="174" h="50">
                <a:moveTo>
                  <a:pt x="15404" y="16098"/>
                </a:moveTo>
                <a:cubicBezTo>
                  <a:pt x="15489" y="16052"/>
                  <a:pt x="15487" y="16049"/>
                  <a:pt x="15577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62680" y="5545080"/>
            <a:ext cx="10764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4362" y="15429"/>
                </a:moveTo>
                <a:cubicBezTo>
                  <a:pt x="14243" y="15416"/>
                  <a:pt x="14181" y="15411"/>
                  <a:pt x="14188" y="15577"/>
                </a:cubicBezTo>
                <a:cubicBezTo>
                  <a:pt x="14196" y="15594"/>
                  <a:pt x="14205" y="15610"/>
                  <a:pt x="14213" y="15627"/>
                </a:cubicBezTo>
                <a:cubicBezTo>
                  <a:pt x="14296" y="15594"/>
                  <a:pt x="14360" y="15525"/>
                  <a:pt x="14312" y="15429"/>
                </a:cubicBezTo>
                <a:cubicBezTo>
                  <a:pt x="14270" y="15344"/>
                  <a:pt x="14139" y="15504"/>
                  <a:pt x="14139" y="15553"/>
                </a:cubicBezTo>
                <a:cubicBezTo>
                  <a:pt x="14139" y="15670"/>
                  <a:pt x="14202" y="15625"/>
                  <a:pt x="14263" y="15602"/>
                </a:cubicBezTo>
                <a:cubicBezTo>
                  <a:pt x="14277" y="15439"/>
                  <a:pt x="14223" y="15439"/>
                  <a:pt x="14064" y="15429"/>
                </a:cubicBezTo>
                <a:cubicBezTo>
                  <a:pt x="14064" y="15523"/>
                  <a:pt x="14130" y="15574"/>
                  <a:pt x="14188" y="15478"/>
                </a:cubicBezTo>
                <a:cubicBezTo>
                  <a:pt x="14287" y="15314"/>
                  <a:pt x="14116" y="15465"/>
                  <a:pt x="14089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45040" y="5180040"/>
            <a:ext cx="71640" cy="177840"/>
          </a:xfrm>
          <a:custGeom>
            <a:avLst/>
            <a:gdLst/>
            <a:ahLst/>
            <a:rect l="l" t="t" r="r" b="b"/>
            <a:pathLst>
              <a:path w="199" h="497">
                <a:moveTo>
                  <a:pt x="14015" y="14511"/>
                </a:moveTo>
                <a:cubicBezTo>
                  <a:pt x="14015" y="14438"/>
                  <a:pt x="14014" y="14414"/>
                  <a:pt x="14064" y="14387"/>
                </a:cubicBezTo>
                <a:cubicBezTo>
                  <a:pt x="14091" y="14511"/>
                  <a:pt x="14088" y="14547"/>
                  <a:pt x="14039" y="14660"/>
                </a:cubicBezTo>
                <a:cubicBezTo>
                  <a:pt x="14113" y="14615"/>
                  <a:pt x="14281" y="14651"/>
                  <a:pt x="14213" y="14808"/>
                </a:cubicBezTo>
                <a:cubicBezTo>
                  <a:pt x="14146" y="14876"/>
                  <a:pt x="14132" y="14901"/>
                  <a:pt x="14064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4000" y="5491080"/>
            <a:ext cx="81000" cy="108000"/>
          </a:xfrm>
          <a:custGeom>
            <a:avLst/>
            <a:gdLst/>
            <a:ahLst/>
            <a:rect l="l" t="t" r="r" b="b"/>
            <a:pathLst>
              <a:path w="224" h="299">
                <a:moveTo>
                  <a:pt x="15776" y="15404"/>
                </a:moveTo>
                <a:cubicBezTo>
                  <a:pt x="15688" y="15490"/>
                  <a:pt x="15732" y="15620"/>
                  <a:pt x="15801" y="15528"/>
                </a:cubicBezTo>
                <a:cubicBezTo>
                  <a:pt x="15823" y="15461"/>
                  <a:pt x="15834" y="15443"/>
                  <a:pt x="15801" y="15404"/>
                </a:cubicBezTo>
                <a:cubicBezTo>
                  <a:pt x="15749" y="15404"/>
                  <a:pt x="15732" y="15405"/>
                  <a:pt x="15726" y="15453"/>
                </a:cubicBezTo>
                <a:cubicBezTo>
                  <a:pt x="15735" y="15474"/>
                  <a:pt x="15857" y="15632"/>
                  <a:pt x="15875" y="15478"/>
                </a:cubicBezTo>
                <a:cubicBezTo>
                  <a:pt x="15889" y="15356"/>
                  <a:pt x="15754" y="15263"/>
                  <a:pt x="15677" y="15379"/>
                </a:cubicBezTo>
                <a:cubicBezTo>
                  <a:pt x="15669" y="15404"/>
                  <a:pt x="15660" y="15428"/>
                  <a:pt x="15652" y="15453"/>
                </a:cubicBezTo>
                <a:cubicBezTo>
                  <a:pt x="15714" y="15578"/>
                  <a:pt x="15809" y="15448"/>
                  <a:pt x="15801" y="15329"/>
                </a:cubicBezTo>
                <a:cubicBezTo>
                  <a:pt x="15789" y="15143"/>
                  <a:pt x="15653" y="15365"/>
                  <a:pt x="15701" y="15429"/>
                </a:cubicBezTo>
                <a:cubicBezTo>
                  <a:pt x="15718" y="15429"/>
                  <a:pt x="15734" y="15429"/>
                  <a:pt x="15751" y="154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1800" y="5170320"/>
            <a:ext cx="169560" cy="18756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15503" y="14362"/>
                </a:moveTo>
                <a:cubicBezTo>
                  <a:pt x="15513" y="14499"/>
                  <a:pt x="15517" y="14650"/>
                  <a:pt x="15553" y="14784"/>
                </a:cubicBezTo>
                <a:cubicBezTo>
                  <a:pt x="15591" y="14925"/>
                  <a:pt x="15719" y="14883"/>
                  <a:pt x="15801" y="14833"/>
                </a:cubicBezTo>
                <a:cubicBezTo>
                  <a:pt x="15880" y="14785"/>
                  <a:pt x="15946" y="14744"/>
                  <a:pt x="15974" y="14660"/>
                </a:cubicBezTo>
                <a:cubicBezTo>
                  <a:pt x="15974" y="14643"/>
                  <a:pt x="15974" y="14627"/>
                  <a:pt x="15974" y="14610"/>
                </a:cubicBezTo>
                <a:cubicBezTo>
                  <a:pt x="15910" y="14602"/>
                  <a:pt x="15850" y="14570"/>
                  <a:pt x="15801" y="14635"/>
                </a:cubicBezTo>
                <a:cubicBezTo>
                  <a:pt x="15773" y="14671"/>
                  <a:pt x="15780" y="14764"/>
                  <a:pt x="15776" y="148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64080" y="4384800"/>
            <a:ext cx="108000" cy="374400"/>
          </a:xfrm>
          <a:custGeom>
            <a:avLst/>
            <a:gdLst/>
            <a:ahLst/>
            <a:rect l="l" t="t" r="r" b="b"/>
            <a:pathLst>
              <a:path w="299" h="1043">
                <a:moveTo>
                  <a:pt x="15478" y="12179"/>
                </a:moveTo>
                <a:cubicBezTo>
                  <a:pt x="15378" y="12404"/>
                  <a:pt x="15231" y="12646"/>
                  <a:pt x="15180" y="12898"/>
                </a:cubicBezTo>
                <a:cubicBezTo>
                  <a:pt x="15135" y="13121"/>
                  <a:pt x="15245" y="13137"/>
                  <a:pt x="15404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26080" y="4572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15627" y="12774"/>
                </a:moveTo>
                <a:cubicBezTo>
                  <a:pt x="15707" y="12754"/>
                  <a:pt x="15793" y="12724"/>
                  <a:pt x="15875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03920" y="4456080"/>
            <a:ext cx="27000" cy="214200"/>
          </a:xfrm>
          <a:custGeom>
            <a:avLst/>
            <a:gdLst/>
            <a:ahLst/>
            <a:rect l="l" t="t" r="r" b="b"/>
            <a:pathLst>
              <a:path w="75" h="596">
                <a:moveTo>
                  <a:pt x="16123" y="12378"/>
                </a:moveTo>
                <a:cubicBezTo>
                  <a:pt x="16133" y="12579"/>
                  <a:pt x="16162" y="12775"/>
                  <a:pt x="16197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84920" y="4446720"/>
            <a:ext cx="187200" cy="16956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16346" y="12378"/>
                </a:moveTo>
                <a:cubicBezTo>
                  <a:pt x="16549" y="12357"/>
                  <a:pt x="16715" y="12364"/>
                  <a:pt x="16594" y="12626"/>
                </a:cubicBezTo>
                <a:cubicBezTo>
                  <a:pt x="16515" y="12744"/>
                  <a:pt x="16507" y="12768"/>
                  <a:pt x="16446" y="12824"/>
                </a:cubicBezTo>
                <a:cubicBezTo>
                  <a:pt x="16605" y="12824"/>
                  <a:pt x="16717" y="12799"/>
                  <a:pt x="16867" y="127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62760" y="4402080"/>
            <a:ext cx="98280" cy="285840"/>
          </a:xfrm>
          <a:custGeom>
            <a:avLst/>
            <a:gdLst/>
            <a:ahLst/>
            <a:rect l="l" t="t" r="r" b="b"/>
            <a:pathLst>
              <a:path w="274" h="794">
                <a:moveTo>
                  <a:pt x="16842" y="12229"/>
                </a:moveTo>
                <a:cubicBezTo>
                  <a:pt x="17122" y="12531"/>
                  <a:pt x="17157" y="12635"/>
                  <a:pt x="17016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Objective:  Students will identify and plot ordered pairs on a coordinate plan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39200" y="73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Objective:  Students will identify and plot ordered pairs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4308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28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572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200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505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358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3148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066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680" y="1371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89120" y="298296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218" y="8285"/>
                </a:moveTo>
                <a:cubicBezTo>
                  <a:pt x="7193" y="8285"/>
                  <a:pt x="7185" y="8285"/>
                  <a:pt x="7193" y="83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3160" y="2214720"/>
            <a:ext cx="795240" cy="374400"/>
          </a:xfrm>
          <a:custGeom>
            <a:avLst/>
            <a:gdLst/>
            <a:ahLst/>
            <a:rect l="l" t="t" r="r" b="b"/>
            <a:pathLst>
              <a:path w="2209" h="1042">
                <a:moveTo>
                  <a:pt x="15453" y="6152"/>
                </a:moveTo>
                <a:cubicBezTo>
                  <a:pt x="15323" y="6443"/>
                  <a:pt x="15058" y="6809"/>
                  <a:pt x="15354" y="7069"/>
                </a:cubicBezTo>
                <a:cubicBezTo>
                  <a:pt x="15460" y="7112"/>
                  <a:pt x="15482" y="7128"/>
                  <a:pt x="15553" y="7119"/>
                </a:cubicBezTo>
              </a:path>
              <a:path w="2209" h="1042">
                <a:moveTo>
                  <a:pt x="15850" y="6400"/>
                </a:moveTo>
                <a:cubicBezTo>
                  <a:pt x="15876" y="6578"/>
                  <a:pt x="15918" y="6750"/>
                  <a:pt x="15949" y="6921"/>
                </a:cubicBezTo>
              </a:path>
              <a:path w="2209" h="1042">
                <a:moveTo>
                  <a:pt x="15577" y="6796"/>
                </a:moveTo>
                <a:cubicBezTo>
                  <a:pt x="15807" y="6714"/>
                  <a:pt x="15955" y="6687"/>
                  <a:pt x="16197" y="6722"/>
                </a:cubicBezTo>
              </a:path>
              <a:path w="2209" h="1042">
                <a:moveTo>
                  <a:pt x="16346" y="6896"/>
                </a:moveTo>
                <a:cubicBezTo>
                  <a:pt x="16369" y="7016"/>
                  <a:pt x="16369" y="7073"/>
                  <a:pt x="16346" y="7193"/>
                </a:cubicBezTo>
              </a:path>
              <a:path w="2209" h="1042">
                <a:moveTo>
                  <a:pt x="16768" y="6474"/>
                </a:moveTo>
                <a:cubicBezTo>
                  <a:pt x="16815" y="6637"/>
                  <a:pt x="16875" y="6801"/>
                  <a:pt x="16892" y="6970"/>
                </a:cubicBezTo>
              </a:path>
              <a:path w="2209" h="1042">
                <a:moveTo>
                  <a:pt x="16545" y="6772"/>
                </a:moveTo>
                <a:cubicBezTo>
                  <a:pt x="16724" y="6742"/>
                  <a:pt x="16907" y="6728"/>
                  <a:pt x="17090" y="6722"/>
                </a:cubicBezTo>
                <a:cubicBezTo>
                  <a:pt x="17107" y="6722"/>
                  <a:pt x="17123" y="6722"/>
                  <a:pt x="17140" y="6722"/>
                </a:cubicBezTo>
              </a:path>
              <a:path w="2209" h="1042">
                <a:moveTo>
                  <a:pt x="17090" y="6251"/>
                </a:moveTo>
                <a:cubicBezTo>
                  <a:pt x="17339" y="6392"/>
                  <a:pt x="17490" y="6552"/>
                  <a:pt x="17438" y="6871"/>
                </a:cubicBezTo>
                <a:cubicBezTo>
                  <a:pt x="17413" y="7025"/>
                  <a:pt x="17348" y="7109"/>
                  <a:pt x="17239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1840" y="2214720"/>
            <a:ext cx="420480" cy="349200"/>
          </a:xfrm>
          <a:custGeom>
            <a:avLst/>
            <a:gdLst/>
            <a:ahLst/>
            <a:rect l="l" t="t" r="r" b="b"/>
            <a:pathLst>
              <a:path w="1167" h="968">
                <a:moveTo>
                  <a:pt x="7367" y="6152"/>
                </a:moveTo>
                <a:cubicBezTo>
                  <a:pt x="7218" y="6380"/>
                  <a:pt x="7084" y="6634"/>
                  <a:pt x="7169" y="6921"/>
                </a:cubicBezTo>
                <a:cubicBezTo>
                  <a:pt x="7195" y="7007"/>
                  <a:pt x="7298" y="7073"/>
                  <a:pt x="7367" y="7119"/>
                </a:cubicBezTo>
              </a:path>
              <a:path w="1167" h="968">
                <a:moveTo>
                  <a:pt x="7615" y="6648"/>
                </a:moveTo>
                <a:cubicBezTo>
                  <a:pt x="7717" y="6631"/>
                  <a:pt x="7814" y="6583"/>
                  <a:pt x="7913" y="6548"/>
                </a:cubicBezTo>
              </a:path>
              <a:path w="1167" h="968">
                <a:moveTo>
                  <a:pt x="8310" y="6747"/>
                </a:moveTo>
                <a:cubicBezTo>
                  <a:pt x="8310" y="6863"/>
                  <a:pt x="8301" y="6912"/>
                  <a:pt x="8260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60800" y="2108160"/>
            <a:ext cx="206280" cy="320760"/>
          </a:xfrm>
          <a:custGeom>
            <a:avLst/>
            <a:gdLst/>
            <a:ahLst/>
            <a:rect l="l" t="t" r="r" b="b"/>
            <a:pathLst>
              <a:path w="571" h="894">
                <a:moveTo>
                  <a:pt x="8830" y="6375"/>
                </a:moveTo>
                <a:cubicBezTo>
                  <a:pt x="8853" y="6490"/>
                  <a:pt x="8883" y="6588"/>
                  <a:pt x="8905" y="6697"/>
                </a:cubicBezTo>
              </a:path>
              <a:path w="571" h="894">
                <a:moveTo>
                  <a:pt x="8781" y="6548"/>
                </a:moveTo>
                <a:cubicBezTo>
                  <a:pt x="8898" y="6502"/>
                  <a:pt x="8933" y="6489"/>
                  <a:pt x="9004" y="6449"/>
                </a:cubicBezTo>
              </a:path>
              <a:path w="571" h="894">
                <a:moveTo>
                  <a:pt x="8880" y="5854"/>
                </a:moveTo>
                <a:cubicBezTo>
                  <a:pt x="9134" y="5936"/>
                  <a:pt x="9409" y="6087"/>
                  <a:pt x="9351" y="6424"/>
                </a:cubicBezTo>
                <a:cubicBezTo>
                  <a:pt x="9329" y="6549"/>
                  <a:pt x="9196" y="6650"/>
                  <a:pt x="9128" y="67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2920" y="5062680"/>
            <a:ext cx="812880" cy="447480"/>
          </a:xfrm>
          <a:custGeom>
            <a:avLst/>
            <a:gdLst/>
            <a:ahLst/>
            <a:rect l="l" t="t" r="r" b="b"/>
            <a:pathLst>
              <a:path w="2258" h="1241">
                <a:moveTo>
                  <a:pt x="7144" y="14064"/>
                </a:moveTo>
                <a:cubicBezTo>
                  <a:pt x="7004" y="14352"/>
                  <a:pt x="6811" y="14694"/>
                  <a:pt x="6896" y="15032"/>
                </a:cubicBezTo>
                <a:cubicBezTo>
                  <a:pt x="6982" y="15160"/>
                  <a:pt x="6998" y="15192"/>
                  <a:pt x="7069" y="15255"/>
                </a:cubicBezTo>
              </a:path>
              <a:path w="2258" h="1241">
                <a:moveTo>
                  <a:pt x="7367" y="14709"/>
                </a:moveTo>
                <a:cubicBezTo>
                  <a:pt x="7478" y="14689"/>
                  <a:pt x="7575" y="14684"/>
                  <a:pt x="7689" y="14684"/>
                </a:cubicBezTo>
              </a:path>
              <a:path w="2258" h="1241">
                <a:moveTo>
                  <a:pt x="8037" y="14932"/>
                </a:moveTo>
                <a:cubicBezTo>
                  <a:pt x="8011" y="15128"/>
                  <a:pt x="8008" y="15144"/>
                  <a:pt x="7863" y="15280"/>
                </a:cubicBezTo>
              </a:path>
              <a:path w="2258" h="1241">
                <a:moveTo>
                  <a:pt x="8285" y="14759"/>
                </a:moveTo>
                <a:cubicBezTo>
                  <a:pt x="8428" y="14759"/>
                  <a:pt x="8564" y="14744"/>
                  <a:pt x="8706" y="14734"/>
                </a:cubicBezTo>
              </a:path>
              <a:path w="2258" h="1241">
                <a:moveTo>
                  <a:pt x="8806" y="14213"/>
                </a:moveTo>
                <a:cubicBezTo>
                  <a:pt x="8996" y="14370"/>
                  <a:pt x="9150" y="14596"/>
                  <a:pt x="9153" y="14858"/>
                </a:cubicBezTo>
                <a:cubicBezTo>
                  <a:pt x="9156" y="15098"/>
                  <a:pt x="9022" y="15184"/>
                  <a:pt x="8855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48160" y="4973760"/>
            <a:ext cx="858960" cy="411120"/>
          </a:xfrm>
          <a:custGeom>
            <a:avLst/>
            <a:gdLst/>
            <a:ahLst/>
            <a:rect l="l" t="t" r="r" b="b"/>
            <a:pathLst>
              <a:path w="2382" h="1142">
                <a:moveTo>
                  <a:pt x="15156" y="13816"/>
                </a:moveTo>
                <a:cubicBezTo>
                  <a:pt x="14975" y="14020"/>
                  <a:pt x="14851" y="14226"/>
                  <a:pt x="14858" y="14511"/>
                </a:cubicBezTo>
                <a:cubicBezTo>
                  <a:pt x="14863" y="14707"/>
                  <a:pt x="14949" y="14755"/>
                  <a:pt x="15081" y="14858"/>
                </a:cubicBezTo>
              </a:path>
              <a:path w="2382" h="1142">
                <a:moveTo>
                  <a:pt x="15478" y="14114"/>
                </a:moveTo>
                <a:cubicBezTo>
                  <a:pt x="15447" y="14206"/>
                  <a:pt x="15415" y="14292"/>
                  <a:pt x="15404" y="14387"/>
                </a:cubicBezTo>
                <a:cubicBezTo>
                  <a:pt x="15523" y="14411"/>
                  <a:pt x="15606" y="14407"/>
                  <a:pt x="15726" y="14387"/>
                </a:cubicBezTo>
              </a:path>
              <a:path w="2382" h="1142">
                <a:moveTo>
                  <a:pt x="15652" y="14064"/>
                </a:moveTo>
                <a:lnTo>
                  <a:pt x="15652" y="14064"/>
                </a:lnTo>
              </a:path>
              <a:path w="2382" h="1142">
                <a:moveTo>
                  <a:pt x="15205" y="14511"/>
                </a:moveTo>
                <a:cubicBezTo>
                  <a:pt x="15334" y="14485"/>
                  <a:pt x="15447" y="14468"/>
                  <a:pt x="15577" y="14461"/>
                </a:cubicBezTo>
              </a:path>
              <a:path w="2382" h="1142">
                <a:moveTo>
                  <a:pt x="15453" y="14114"/>
                </a:moveTo>
                <a:cubicBezTo>
                  <a:pt x="15469" y="14313"/>
                  <a:pt x="15453" y="14506"/>
                  <a:pt x="15453" y="14709"/>
                </a:cubicBezTo>
                <a:cubicBezTo>
                  <a:pt x="15453" y="14726"/>
                  <a:pt x="15453" y="14742"/>
                  <a:pt x="15453" y="14759"/>
                </a:cubicBezTo>
              </a:path>
              <a:path w="2382" h="1142">
                <a:moveTo>
                  <a:pt x="16049" y="14560"/>
                </a:moveTo>
                <a:cubicBezTo>
                  <a:pt x="16083" y="14724"/>
                  <a:pt x="16089" y="14793"/>
                  <a:pt x="15974" y="14908"/>
                </a:cubicBezTo>
              </a:path>
              <a:path w="2382" h="1142">
                <a:moveTo>
                  <a:pt x="16396" y="14461"/>
                </a:moveTo>
                <a:cubicBezTo>
                  <a:pt x="16504" y="14454"/>
                  <a:pt x="16610" y="14442"/>
                  <a:pt x="16718" y="14436"/>
                </a:cubicBezTo>
              </a:path>
              <a:path w="2382" h="1142">
                <a:moveTo>
                  <a:pt x="16768" y="13990"/>
                </a:moveTo>
                <a:cubicBezTo>
                  <a:pt x="17022" y="14111"/>
                  <a:pt x="17297" y="14266"/>
                  <a:pt x="17239" y="14610"/>
                </a:cubicBezTo>
                <a:cubicBezTo>
                  <a:pt x="17208" y="14792"/>
                  <a:pt x="17027" y="14875"/>
                  <a:pt x="16892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Plotting ordered 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ed Pai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3,2) o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lways move in the x direction first (side to side) then in the y direction (up or down) then plot you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xample: (2, -4) : Move two to the right, and four down. Quadra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xample: (-3, -4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Example:  (0, -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3120" y="6384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7735"/>
                </a:moveTo>
                <a:lnTo>
                  <a:pt x="4093" y="1773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3240" y="3554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8260" y="9872"/>
                </a:moveTo>
                <a:cubicBezTo>
                  <a:pt x="8260" y="9880"/>
                  <a:pt x="8260" y="9889"/>
                  <a:pt x="8260" y="98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2080" y="4367160"/>
            <a:ext cx="571680" cy="268200"/>
          </a:xfrm>
          <a:custGeom>
            <a:avLst/>
            <a:gdLst/>
            <a:ahLst/>
            <a:rect l="l" t="t" r="r" b="b"/>
            <a:pathLst>
              <a:path w="1588" h="746">
                <a:moveTo>
                  <a:pt x="12229" y="12179"/>
                </a:moveTo>
                <a:cubicBezTo>
                  <a:pt x="12249" y="12410"/>
                  <a:pt x="12270" y="12646"/>
                  <a:pt x="12303" y="12874"/>
                </a:cubicBezTo>
              </a:path>
              <a:path w="1588" h="746">
                <a:moveTo>
                  <a:pt x="12601" y="12576"/>
                </a:moveTo>
                <a:cubicBezTo>
                  <a:pt x="12725" y="12551"/>
                  <a:pt x="12766" y="12543"/>
                  <a:pt x="12849" y="12526"/>
                </a:cubicBezTo>
                <a:cubicBezTo>
                  <a:pt x="12725" y="12478"/>
                  <a:pt x="12452" y="12352"/>
                  <a:pt x="12477" y="12626"/>
                </a:cubicBezTo>
                <a:cubicBezTo>
                  <a:pt x="12493" y="12804"/>
                  <a:pt x="12595" y="12785"/>
                  <a:pt x="12725" y="12799"/>
                </a:cubicBezTo>
              </a:path>
              <a:path w="1588" h="746">
                <a:moveTo>
                  <a:pt x="13072" y="12154"/>
                </a:moveTo>
                <a:cubicBezTo>
                  <a:pt x="12911" y="12245"/>
                  <a:pt x="13052" y="12395"/>
                  <a:pt x="13097" y="12551"/>
                </a:cubicBezTo>
                <a:cubicBezTo>
                  <a:pt x="13119" y="12659"/>
                  <a:pt x="13132" y="12686"/>
                  <a:pt x="13097" y="12750"/>
                </a:cubicBezTo>
              </a:path>
              <a:path w="1588" h="746">
                <a:moveTo>
                  <a:pt x="12898" y="12526"/>
                </a:moveTo>
                <a:cubicBezTo>
                  <a:pt x="13044" y="12518"/>
                  <a:pt x="13154" y="12493"/>
                  <a:pt x="13295" y="12452"/>
                </a:cubicBezTo>
              </a:path>
              <a:path w="1588" h="746">
                <a:moveTo>
                  <a:pt x="13543" y="12179"/>
                </a:moveTo>
                <a:cubicBezTo>
                  <a:pt x="13534" y="12287"/>
                  <a:pt x="13503" y="12381"/>
                  <a:pt x="13543" y="12477"/>
                </a:cubicBezTo>
                <a:cubicBezTo>
                  <a:pt x="13600" y="12493"/>
                  <a:pt x="13669" y="12483"/>
                  <a:pt x="13742" y="12477"/>
                </a:cubicBezTo>
              </a:path>
              <a:path w="1588" h="746">
                <a:moveTo>
                  <a:pt x="13742" y="12179"/>
                </a:moveTo>
                <a:lnTo>
                  <a:pt x="13742" y="12179"/>
                </a:lnTo>
              </a:path>
              <a:path w="1588" h="746">
                <a:moveTo>
                  <a:pt x="13543" y="12129"/>
                </a:moveTo>
                <a:cubicBezTo>
                  <a:pt x="13543" y="12302"/>
                  <a:pt x="13490" y="12482"/>
                  <a:pt x="13494" y="12650"/>
                </a:cubicBezTo>
                <a:cubicBezTo>
                  <a:pt x="13499" y="12865"/>
                  <a:pt x="13700" y="12745"/>
                  <a:pt x="13816" y="12700"/>
                </a:cubicBezTo>
              </a:path>
              <a:path w="1588" h="746">
                <a:moveTo>
                  <a:pt x="13345" y="12502"/>
                </a:moveTo>
                <a:cubicBezTo>
                  <a:pt x="13403" y="12495"/>
                  <a:pt x="13461" y="12484"/>
                  <a:pt x="13519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7960" y="4384800"/>
            <a:ext cx="152280" cy="169560"/>
          </a:xfrm>
          <a:custGeom>
            <a:avLst/>
            <a:gdLst/>
            <a:ahLst/>
            <a:rect l="l" t="t" r="r" b="b"/>
            <a:pathLst>
              <a:path w="422" h="472">
                <a:moveTo>
                  <a:pt x="14412" y="12179"/>
                </a:moveTo>
                <a:cubicBezTo>
                  <a:pt x="14501" y="12179"/>
                  <a:pt x="14789" y="12147"/>
                  <a:pt x="14709" y="12328"/>
                </a:cubicBezTo>
                <a:cubicBezTo>
                  <a:pt x="14617" y="12420"/>
                  <a:pt x="14593" y="12449"/>
                  <a:pt x="14511" y="12477"/>
                </a:cubicBezTo>
                <a:cubicBezTo>
                  <a:pt x="14650" y="12360"/>
                  <a:pt x="14645" y="12380"/>
                  <a:pt x="14808" y="12452"/>
                </a:cubicBezTo>
                <a:cubicBezTo>
                  <a:pt x="14782" y="12611"/>
                  <a:pt x="14719" y="12587"/>
                  <a:pt x="14536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45080" y="4321080"/>
            <a:ext cx="1081080" cy="233280"/>
          </a:xfrm>
          <a:custGeom>
            <a:avLst/>
            <a:gdLst/>
            <a:ahLst/>
            <a:rect l="l" t="t" r="r" b="b"/>
            <a:pathLst>
              <a:path w="3002" h="646">
                <a:moveTo>
                  <a:pt x="15825" y="12378"/>
                </a:moveTo>
                <a:cubicBezTo>
                  <a:pt x="15843" y="12461"/>
                  <a:pt x="15707" y="12331"/>
                  <a:pt x="15577" y="12353"/>
                </a:cubicBezTo>
                <a:cubicBezTo>
                  <a:pt x="15379" y="12387"/>
                  <a:pt x="15342" y="12655"/>
                  <a:pt x="15577" y="12650"/>
                </a:cubicBezTo>
                <a:cubicBezTo>
                  <a:pt x="15764" y="12646"/>
                  <a:pt x="15774" y="12504"/>
                  <a:pt x="15801" y="12378"/>
                </a:cubicBezTo>
              </a:path>
              <a:path w="3002" h="646">
                <a:moveTo>
                  <a:pt x="15701" y="12105"/>
                </a:moveTo>
                <a:cubicBezTo>
                  <a:pt x="15767" y="12263"/>
                  <a:pt x="15830" y="12421"/>
                  <a:pt x="15900" y="12576"/>
                </a:cubicBezTo>
              </a:path>
              <a:path w="3002" h="646">
                <a:moveTo>
                  <a:pt x="16123" y="12328"/>
                </a:moveTo>
                <a:cubicBezTo>
                  <a:pt x="16077" y="12441"/>
                  <a:pt x="16061" y="12471"/>
                  <a:pt x="16073" y="12551"/>
                </a:cubicBezTo>
                <a:cubicBezTo>
                  <a:pt x="16160" y="12560"/>
                  <a:pt x="16403" y="12486"/>
                  <a:pt x="16321" y="12328"/>
                </a:cubicBezTo>
                <a:cubicBezTo>
                  <a:pt x="16239" y="12300"/>
                  <a:pt x="16207" y="12290"/>
                  <a:pt x="16148" y="12278"/>
                </a:cubicBezTo>
              </a:path>
              <a:path w="3002" h="646">
                <a:moveTo>
                  <a:pt x="16495" y="12328"/>
                </a:moveTo>
                <a:cubicBezTo>
                  <a:pt x="16521" y="12445"/>
                  <a:pt x="16622" y="12668"/>
                  <a:pt x="16793" y="12502"/>
                </a:cubicBezTo>
                <a:cubicBezTo>
                  <a:pt x="16837" y="12413"/>
                  <a:pt x="16853" y="12392"/>
                  <a:pt x="16842" y="12328"/>
                </a:cubicBezTo>
                <a:cubicBezTo>
                  <a:pt x="16689" y="12328"/>
                  <a:pt x="16785" y="12485"/>
                  <a:pt x="16892" y="12502"/>
                </a:cubicBezTo>
                <a:cubicBezTo>
                  <a:pt x="16979" y="12516"/>
                  <a:pt x="17217" y="12400"/>
                  <a:pt x="17115" y="12278"/>
                </a:cubicBezTo>
                <a:cubicBezTo>
                  <a:pt x="17072" y="12257"/>
                  <a:pt x="17060" y="12253"/>
                  <a:pt x="17041" y="12229"/>
                </a:cubicBezTo>
              </a:path>
              <a:path w="3002" h="646">
                <a:moveTo>
                  <a:pt x="17338" y="12353"/>
                </a:moveTo>
                <a:cubicBezTo>
                  <a:pt x="17362" y="12472"/>
                  <a:pt x="17368" y="12509"/>
                  <a:pt x="17413" y="12576"/>
                </a:cubicBezTo>
                <a:cubicBezTo>
                  <a:pt x="17370" y="12439"/>
                  <a:pt x="17355" y="12446"/>
                  <a:pt x="17438" y="12328"/>
                </a:cubicBezTo>
                <a:cubicBezTo>
                  <a:pt x="17576" y="12403"/>
                  <a:pt x="17644" y="12472"/>
                  <a:pt x="17686" y="12626"/>
                </a:cubicBezTo>
              </a:path>
              <a:path w="3002" h="646">
                <a:moveTo>
                  <a:pt x="18008" y="12204"/>
                </a:moveTo>
                <a:cubicBezTo>
                  <a:pt x="18065" y="12475"/>
                  <a:pt x="18104" y="12462"/>
                  <a:pt x="18380" y="12452"/>
                </a:cubicBezTo>
              </a:path>
              <a:path w="3002" h="646">
                <a:moveTo>
                  <a:pt x="18281" y="12005"/>
                </a:moveTo>
                <a:cubicBezTo>
                  <a:pt x="18324" y="12203"/>
                  <a:pt x="18365" y="12402"/>
                  <a:pt x="18405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66000" y="4224240"/>
            <a:ext cx="838080" cy="339840"/>
          </a:xfrm>
          <a:custGeom>
            <a:avLst/>
            <a:gdLst/>
            <a:ahLst/>
            <a:rect l="l" t="t" r="r" b="b"/>
            <a:pathLst>
              <a:path w="2332" h="943">
                <a:moveTo>
                  <a:pt x="19571" y="11832"/>
                </a:moveTo>
                <a:cubicBezTo>
                  <a:pt x="19437" y="12131"/>
                  <a:pt x="19186" y="12442"/>
                  <a:pt x="19571" y="12650"/>
                </a:cubicBezTo>
                <a:cubicBezTo>
                  <a:pt x="19604" y="12658"/>
                  <a:pt x="19637" y="12667"/>
                  <a:pt x="19670" y="12675"/>
                </a:cubicBezTo>
              </a:path>
              <a:path w="2332" h="943">
                <a:moveTo>
                  <a:pt x="20067" y="11881"/>
                </a:moveTo>
                <a:cubicBezTo>
                  <a:pt x="19910" y="11928"/>
                  <a:pt x="19732" y="12135"/>
                  <a:pt x="19794" y="12328"/>
                </a:cubicBezTo>
                <a:cubicBezTo>
                  <a:pt x="19873" y="12575"/>
                  <a:pt x="20423" y="12518"/>
                  <a:pt x="20340" y="12229"/>
                </a:cubicBezTo>
                <a:cubicBezTo>
                  <a:pt x="20229" y="12095"/>
                  <a:pt x="20206" y="12053"/>
                  <a:pt x="20092" y="12030"/>
                </a:cubicBezTo>
              </a:path>
              <a:path w="2332" h="943">
                <a:moveTo>
                  <a:pt x="20141" y="12278"/>
                </a:moveTo>
                <a:cubicBezTo>
                  <a:pt x="20258" y="12317"/>
                  <a:pt x="20369" y="12404"/>
                  <a:pt x="20489" y="12452"/>
                </a:cubicBezTo>
                <a:cubicBezTo>
                  <a:pt x="20514" y="12460"/>
                  <a:pt x="20538" y="12469"/>
                  <a:pt x="20563" y="12477"/>
                </a:cubicBezTo>
              </a:path>
              <a:path w="2332" h="943">
                <a:moveTo>
                  <a:pt x="20861" y="12005"/>
                </a:moveTo>
                <a:cubicBezTo>
                  <a:pt x="20904" y="11988"/>
                  <a:pt x="21139" y="11902"/>
                  <a:pt x="21059" y="12055"/>
                </a:cubicBezTo>
                <a:cubicBezTo>
                  <a:pt x="20984" y="12130"/>
                  <a:pt x="20957" y="12156"/>
                  <a:pt x="20886" y="12179"/>
                </a:cubicBezTo>
                <a:cubicBezTo>
                  <a:pt x="20911" y="12162"/>
                  <a:pt x="20935" y="12146"/>
                  <a:pt x="20960" y="12129"/>
                </a:cubicBezTo>
                <a:cubicBezTo>
                  <a:pt x="21134" y="12144"/>
                  <a:pt x="21169" y="12111"/>
                  <a:pt x="21233" y="12254"/>
                </a:cubicBezTo>
                <a:cubicBezTo>
                  <a:pt x="21110" y="12386"/>
                  <a:pt x="21083" y="12370"/>
                  <a:pt x="20886" y="12378"/>
                </a:cubicBezTo>
              </a:path>
              <a:path w="2332" h="943">
                <a:moveTo>
                  <a:pt x="21258" y="11733"/>
                </a:moveTo>
                <a:cubicBezTo>
                  <a:pt x="21468" y="11873"/>
                  <a:pt x="21809" y="12088"/>
                  <a:pt x="21630" y="12402"/>
                </a:cubicBezTo>
                <a:cubicBezTo>
                  <a:pt x="21589" y="12435"/>
                  <a:pt x="21547" y="12469"/>
                  <a:pt x="2150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75080" y="5027760"/>
            <a:ext cx="947880" cy="330120"/>
          </a:xfrm>
          <a:custGeom>
            <a:avLst/>
            <a:gdLst/>
            <a:ahLst/>
            <a:rect l="l" t="t" r="r" b="b"/>
            <a:pathLst>
              <a:path w="2631" h="919">
                <a:moveTo>
                  <a:pt x="12378" y="14089"/>
                </a:moveTo>
                <a:cubicBezTo>
                  <a:pt x="12297" y="14160"/>
                  <a:pt x="12201" y="14221"/>
                  <a:pt x="12154" y="14312"/>
                </a:cubicBezTo>
                <a:cubicBezTo>
                  <a:pt x="12303" y="14362"/>
                  <a:pt x="12353" y="14379"/>
                  <a:pt x="12452" y="14412"/>
                </a:cubicBezTo>
                <a:cubicBezTo>
                  <a:pt x="12415" y="14572"/>
                  <a:pt x="12405" y="14551"/>
                  <a:pt x="12254" y="14610"/>
                </a:cubicBezTo>
              </a:path>
              <a:path w="2631" h="919">
                <a:moveTo>
                  <a:pt x="12626" y="13965"/>
                </a:moveTo>
                <a:cubicBezTo>
                  <a:pt x="12701" y="14154"/>
                  <a:pt x="12756" y="14313"/>
                  <a:pt x="12799" y="14511"/>
                </a:cubicBezTo>
              </a:path>
              <a:path w="2631" h="919">
                <a:moveTo>
                  <a:pt x="12576" y="14213"/>
                </a:moveTo>
                <a:cubicBezTo>
                  <a:pt x="12650" y="14196"/>
                  <a:pt x="12725" y="14180"/>
                  <a:pt x="12799" y="14163"/>
                </a:cubicBezTo>
              </a:path>
              <a:path w="2631" h="919">
                <a:moveTo>
                  <a:pt x="13171" y="14163"/>
                </a:moveTo>
                <a:cubicBezTo>
                  <a:pt x="12995" y="14213"/>
                  <a:pt x="12994" y="14326"/>
                  <a:pt x="12948" y="14486"/>
                </a:cubicBezTo>
                <a:cubicBezTo>
                  <a:pt x="13068" y="14519"/>
                  <a:pt x="13287" y="14287"/>
                  <a:pt x="13146" y="14238"/>
                </a:cubicBezTo>
                <a:cubicBezTo>
                  <a:pt x="13138" y="14263"/>
                  <a:pt x="13130" y="14287"/>
                  <a:pt x="13122" y="14312"/>
                </a:cubicBezTo>
                <a:cubicBezTo>
                  <a:pt x="13217" y="14415"/>
                  <a:pt x="13373" y="14571"/>
                  <a:pt x="13444" y="14337"/>
                </a:cubicBezTo>
                <a:cubicBezTo>
                  <a:pt x="13444" y="14252"/>
                  <a:pt x="13450" y="14207"/>
                  <a:pt x="13419" y="14288"/>
                </a:cubicBezTo>
                <a:cubicBezTo>
                  <a:pt x="13483" y="14414"/>
                  <a:pt x="13542" y="14493"/>
                  <a:pt x="13667" y="14387"/>
                </a:cubicBezTo>
              </a:path>
              <a:path w="2631" h="919">
                <a:moveTo>
                  <a:pt x="13618" y="14238"/>
                </a:moveTo>
                <a:cubicBezTo>
                  <a:pt x="13644" y="14455"/>
                  <a:pt x="13667" y="14664"/>
                  <a:pt x="13667" y="14883"/>
                </a:cubicBezTo>
              </a:path>
              <a:path w="2631" h="919">
                <a:moveTo>
                  <a:pt x="14089" y="14163"/>
                </a:moveTo>
                <a:cubicBezTo>
                  <a:pt x="13974" y="14290"/>
                  <a:pt x="13979" y="14300"/>
                  <a:pt x="14015" y="14461"/>
                </a:cubicBezTo>
                <a:cubicBezTo>
                  <a:pt x="14162" y="14433"/>
                  <a:pt x="14338" y="14335"/>
                  <a:pt x="14139" y="14188"/>
                </a:cubicBezTo>
                <a:cubicBezTo>
                  <a:pt x="14097" y="14188"/>
                  <a:pt x="14072" y="14188"/>
                  <a:pt x="14114" y="14188"/>
                </a:cubicBezTo>
              </a:path>
              <a:path w="2631" h="919">
                <a:moveTo>
                  <a:pt x="14412" y="14362"/>
                </a:moveTo>
                <a:cubicBezTo>
                  <a:pt x="14473" y="14404"/>
                  <a:pt x="14377" y="14234"/>
                  <a:pt x="14461" y="14163"/>
                </a:cubicBezTo>
                <a:cubicBezTo>
                  <a:pt x="14603" y="14044"/>
                  <a:pt x="14778" y="14259"/>
                  <a:pt x="14784" y="14387"/>
                </a:cubicBezTo>
                <a:cubicBezTo>
                  <a:pt x="14776" y="14395"/>
                  <a:pt x="14767" y="14404"/>
                  <a:pt x="14759" y="144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46800" y="5000760"/>
            <a:ext cx="893520" cy="169560"/>
          </a:xfrm>
          <a:custGeom>
            <a:avLst/>
            <a:gdLst/>
            <a:ahLst/>
            <a:rect l="l" t="t" r="r" b="b"/>
            <a:pathLst>
              <a:path w="2481" h="472">
                <a:moveTo>
                  <a:pt x="15131" y="13940"/>
                </a:moveTo>
                <a:cubicBezTo>
                  <a:pt x="15246" y="14094"/>
                  <a:pt x="15383" y="14234"/>
                  <a:pt x="15528" y="14362"/>
                </a:cubicBezTo>
              </a:path>
              <a:path w="2481" h="472">
                <a:moveTo>
                  <a:pt x="15379" y="13940"/>
                </a:moveTo>
                <a:cubicBezTo>
                  <a:pt x="15333" y="14084"/>
                  <a:pt x="15298" y="14221"/>
                  <a:pt x="15255" y="14362"/>
                </a:cubicBezTo>
              </a:path>
              <a:path w="2481" h="472">
                <a:moveTo>
                  <a:pt x="15726" y="14114"/>
                </a:moveTo>
                <a:cubicBezTo>
                  <a:pt x="15759" y="14106"/>
                  <a:pt x="15792" y="14097"/>
                  <a:pt x="15825" y="14089"/>
                </a:cubicBezTo>
              </a:path>
              <a:path w="2481" h="472">
                <a:moveTo>
                  <a:pt x="16396" y="14089"/>
                </a:moveTo>
                <a:cubicBezTo>
                  <a:pt x="16422" y="14011"/>
                  <a:pt x="16428" y="13983"/>
                  <a:pt x="16371" y="13940"/>
                </a:cubicBezTo>
                <a:cubicBezTo>
                  <a:pt x="16299" y="13972"/>
                  <a:pt x="15979" y="14245"/>
                  <a:pt x="16247" y="14263"/>
                </a:cubicBezTo>
                <a:cubicBezTo>
                  <a:pt x="16353" y="14210"/>
                  <a:pt x="16389" y="14186"/>
                  <a:pt x="16396" y="14089"/>
                </a:cubicBezTo>
                <a:cubicBezTo>
                  <a:pt x="16317" y="14165"/>
                  <a:pt x="16571" y="14225"/>
                  <a:pt x="16669" y="14238"/>
                </a:cubicBezTo>
              </a:path>
              <a:path w="2481" h="472">
                <a:moveTo>
                  <a:pt x="16644" y="13940"/>
                </a:moveTo>
                <a:cubicBezTo>
                  <a:pt x="16750" y="14131"/>
                  <a:pt x="16792" y="14197"/>
                  <a:pt x="17016" y="14213"/>
                </a:cubicBezTo>
              </a:path>
              <a:path w="2481" h="472">
                <a:moveTo>
                  <a:pt x="16818" y="13990"/>
                </a:moveTo>
                <a:cubicBezTo>
                  <a:pt x="16784" y="14120"/>
                  <a:pt x="16754" y="14229"/>
                  <a:pt x="16743" y="14362"/>
                </a:cubicBezTo>
              </a:path>
              <a:path w="2481" h="472">
                <a:moveTo>
                  <a:pt x="17090" y="14064"/>
                </a:moveTo>
                <a:cubicBezTo>
                  <a:pt x="17111" y="14148"/>
                  <a:pt x="17113" y="14167"/>
                  <a:pt x="17140" y="14213"/>
                </a:cubicBezTo>
              </a:path>
              <a:path w="2481" h="472">
                <a:moveTo>
                  <a:pt x="17041" y="13915"/>
                </a:moveTo>
                <a:lnTo>
                  <a:pt x="17041" y="13915"/>
                </a:lnTo>
              </a:path>
              <a:path w="2481" h="472">
                <a:moveTo>
                  <a:pt x="17363" y="13891"/>
                </a:moveTo>
                <a:cubicBezTo>
                  <a:pt x="17338" y="13907"/>
                  <a:pt x="17314" y="13924"/>
                  <a:pt x="17289" y="13940"/>
                </a:cubicBezTo>
                <a:cubicBezTo>
                  <a:pt x="17316" y="13958"/>
                  <a:pt x="17628" y="14002"/>
                  <a:pt x="17611" y="14114"/>
                </a:cubicBezTo>
                <a:cubicBezTo>
                  <a:pt x="17532" y="14193"/>
                  <a:pt x="17500" y="14219"/>
                  <a:pt x="17413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99160" y="4857840"/>
            <a:ext cx="731880" cy="268200"/>
          </a:xfrm>
          <a:custGeom>
            <a:avLst/>
            <a:gdLst/>
            <a:ahLst/>
            <a:rect l="l" t="t" r="r" b="b"/>
            <a:pathLst>
              <a:path w="2035" h="745">
                <a:moveTo>
                  <a:pt x="18703" y="13965"/>
                </a:moveTo>
                <a:cubicBezTo>
                  <a:pt x="18654" y="13888"/>
                  <a:pt x="18609" y="13801"/>
                  <a:pt x="18504" y="13816"/>
                </a:cubicBezTo>
                <a:cubicBezTo>
                  <a:pt x="18450" y="13843"/>
                  <a:pt x="18430" y="13855"/>
                  <a:pt x="18405" y="13891"/>
                </a:cubicBezTo>
              </a:path>
              <a:path w="2035" h="745">
                <a:moveTo>
                  <a:pt x="18579" y="13494"/>
                </a:moveTo>
                <a:cubicBezTo>
                  <a:pt x="18655" y="13723"/>
                  <a:pt x="18695" y="13949"/>
                  <a:pt x="18728" y="14188"/>
                </a:cubicBezTo>
                <a:cubicBezTo>
                  <a:pt x="18728" y="14196"/>
                  <a:pt x="18728" y="14205"/>
                  <a:pt x="18728" y="14213"/>
                </a:cubicBezTo>
              </a:path>
              <a:path w="2035" h="745">
                <a:moveTo>
                  <a:pt x="18653" y="13990"/>
                </a:moveTo>
                <a:cubicBezTo>
                  <a:pt x="18594" y="13937"/>
                  <a:pt x="18457" y="13846"/>
                  <a:pt x="18380" y="13940"/>
                </a:cubicBezTo>
                <a:cubicBezTo>
                  <a:pt x="18187" y="14175"/>
                  <a:pt x="18447" y="14220"/>
                  <a:pt x="18604" y="14213"/>
                </a:cubicBezTo>
              </a:path>
              <a:path w="2035" h="745">
                <a:moveTo>
                  <a:pt x="19025" y="13891"/>
                </a:moveTo>
                <a:cubicBezTo>
                  <a:pt x="18924" y="13850"/>
                  <a:pt x="18853" y="14004"/>
                  <a:pt x="18951" y="14089"/>
                </a:cubicBezTo>
                <a:cubicBezTo>
                  <a:pt x="19083" y="14205"/>
                  <a:pt x="19267" y="13991"/>
                  <a:pt x="19100" y="13866"/>
                </a:cubicBezTo>
                <a:cubicBezTo>
                  <a:pt x="19067" y="13858"/>
                  <a:pt x="19033" y="13849"/>
                  <a:pt x="19000" y="13841"/>
                </a:cubicBezTo>
              </a:path>
              <a:path w="2035" h="745">
                <a:moveTo>
                  <a:pt x="19248" y="13866"/>
                </a:moveTo>
                <a:cubicBezTo>
                  <a:pt x="19286" y="13963"/>
                  <a:pt x="19411" y="14220"/>
                  <a:pt x="19521" y="14015"/>
                </a:cubicBezTo>
                <a:cubicBezTo>
                  <a:pt x="19540" y="13937"/>
                  <a:pt x="19565" y="13920"/>
                  <a:pt x="19521" y="13891"/>
                </a:cubicBezTo>
                <a:cubicBezTo>
                  <a:pt x="19540" y="14059"/>
                  <a:pt x="19671" y="14033"/>
                  <a:pt x="19819" y="13990"/>
                </a:cubicBezTo>
                <a:cubicBezTo>
                  <a:pt x="19789" y="13841"/>
                  <a:pt x="19772" y="13843"/>
                  <a:pt x="19645" y="13742"/>
                </a:cubicBezTo>
              </a:path>
              <a:path w="2035" h="745">
                <a:moveTo>
                  <a:pt x="19968" y="13841"/>
                </a:moveTo>
                <a:cubicBezTo>
                  <a:pt x="20016" y="13938"/>
                  <a:pt x="20031" y="13968"/>
                  <a:pt x="20042" y="14039"/>
                </a:cubicBezTo>
                <a:cubicBezTo>
                  <a:pt x="20029" y="13959"/>
                  <a:pt x="19969" y="13702"/>
                  <a:pt x="20166" y="13742"/>
                </a:cubicBezTo>
                <a:cubicBezTo>
                  <a:pt x="20307" y="13771"/>
                  <a:pt x="20316" y="13883"/>
                  <a:pt x="20365" y="139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6320" y="4840200"/>
            <a:ext cx="169920" cy="21456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20712" y="13444"/>
                </a:moveTo>
                <a:cubicBezTo>
                  <a:pt x="20881" y="13515"/>
                  <a:pt x="21006" y="13576"/>
                  <a:pt x="21183" y="13519"/>
                </a:cubicBezTo>
                <a:cubicBezTo>
                  <a:pt x="21183" y="13669"/>
                  <a:pt x="21162" y="13815"/>
                  <a:pt x="21158" y="13965"/>
                </a:cubicBezTo>
                <a:cubicBezTo>
                  <a:pt x="21158" y="13990"/>
                  <a:pt x="21158" y="14014"/>
                  <a:pt x="21158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93000" y="4714920"/>
            <a:ext cx="1063800" cy="401760"/>
          </a:xfrm>
          <a:custGeom>
            <a:avLst/>
            <a:gdLst/>
            <a:ahLst/>
            <a:rect l="l" t="t" r="r" b="b"/>
            <a:pathLst>
              <a:path w="2953" h="1117">
                <a:moveTo>
                  <a:pt x="22051" y="13295"/>
                </a:moveTo>
                <a:lnTo>
                  <a:pt x="22051" y="13295"/>
                </a:lnTo>
              </a:path>
              <a:path w="2953" h="1117">
                <a:moveTo>
                  <a:pt x="22076" y="13345"/>
                </a:moveTo>
                <a:cubicBezTo>
                  <a:pt x="22016" y="13594"/>
                  <a:pt x="21800" y="14021"/>
                  <a:pt x="22027" y="14213"/>
                </a:cubicBezTo>
                <a:cubicBezTo>
                  <a:pt x="22052" y="14213"/>
                  <a:pt x="22076" y="14213"/>
                  <a:pt x="22101" y="14213"/>
                </a:cubicBezTo>
              </a:path>
              <a:path w="2953" h="1117">
                <a:moveTo>
                  <a:pt x="22299" y="13742"/>
                </a:moveTo>
                <a:cubicBezTo>
                  <a:pt x="22174" y="13788"/>
                  <a:pt x="22193" y="13797"/>
                  <a:pt x="22175" y="13940"/>
                </a:cubicBezTo>
                <a:cubicBezTo>
                  <a:pt x="22270" y="13977"/>
                  <a:pt x="22495" y="13979"/>
                  <a:pt x="22374" y="13791"/>
                </a:cubicBezTo>
                <a:cubicBezTo>
                  <a:pt x="22349" y="13775"/>
                  <a:pt x="22324" y="13758"/>
                  <a:pt x="22299" y="13742"/>
                </a:cubicBezTo>
              </a:path>
              <a:path w="2953" h="1117">
                <a:moveTo>
                  <a:pt x="22473" y="13767"/>
                </a:moveTo>
                <a:cubicBezTo>
                  <a:pt x="22514" y="13848"/>
                  <a:pt x="22530" y="13860"/>
                  <a:pt x="22523" y="13915"/>
                </a:cubicBezTo>
                <a:cubicBezTo>
                  <a:pt x="22535" y="13826"/>
                  <a:pt x="22623" y="13589"/>
                  <a:pt x="22771" y="13742"/>
                </a:cubicBezTo>
                <a:cubicBezTo>
                  <a:pt x="22813" y="13848"/>
                  <a:pt x="22829" y="13869"/>
                  <a:pt x="22820" y="13940"/>
                </a:cubicBezTo>
              </a:path>
              <a:path w="2953" h="1117">
                <a:moveTo>
                  <a:pt x="23118" y="13692"/>
                </a:moveTo>
                <a:cubicBezTo>
                  <a:pt x="23211" y="13849"/>
                  <a:pt x="23279" y="13926"/>
                  <a:pt x="23440" y="14015"/>
                </a:cubicBezTo>
              </a:path>
              <a:path w="2953" h="1117">
                <a:moveTo>
                  <a:pt x="23416" y="13667"/>
                </a:moveTo>
                <a:cubicBezTo>
                  <a:pt x="23397" y="13834"/>
                  <a:pt x="23391" y="13994"/>
                  <a:pt x="23391" y="14163"/>
                </a:cubicBezTo>
                <a:cubicBezTo>
                  <a:pt x="23391" y="14180"/>
                  <a:pt x="23391" y="14196"/>
                  <a:pt x="23391" y="14213"/>
                </a:cubicBezTo>
              </a:path>
              <a:path w="2953" h="1117">
                <a:moveTo>
                  <a:pt x="23540" y="13891"/>
                </a:moveTo>
                <a:cubicBezTo>
                  <a:pt x="23602" y="13828"/>
                  <a:pt x="23637" y="13807"/>
                  <a:pt x="23713" y="13816"/>
                </a:cubicBezTo>
              </a:path>
              <a:path w="2953" h="1117">
                <a:moveTo>
                  <a:pt x="23912" y="13717"/>
                </a:moveTo>
                <a:cubicBezTo>
                  <a:pt x="23863" y="13721"/>
                  <a:pt x="23581" y="13847"/>
                  <a:pt x="23738" y="13940"/>
                </a:cubicBezTo>
                <a:cubicBezTo>
                  <a:pt x="23859" y="14011"/>
                  <a:pt x="23847" y="13811"/>
                  <a:pt x="23837" y="13767"/>
                </a:cubicBezTo>
                <a:cubicBezTo>
                  <a:pt x="23895" y="13853"/>
                  <a:pt x="23953" y="13899"/>
                  <a:pt x="24036" y="13965"/>
                </a:cubicBezTo>
              </a:path>
              <a:path w="2953" h="1117">
                <a:moveTo>
                  <a:pt x="24061" y="13692"/>
                </a:moveTo>
                <a:cubicBezTo>
                  <a:pt x="24103" y="13777"/>
                  <a:pt x="24151" y="13837"/>
                  <a:pt x="24209" y="13915"/>
                </a:cubicBezTo>
              </a:path>
              <a:path w="2953" h="1117">
                <a:moveTo>
                  <a:pt x="24110" y="13643"/>
                </a:moveTo>
                <a:cubicBezTo>
                  <a:pt x="24102" y="13770"/>
                  <a:pt x="24073" y="13890"/>
                  <a:pt x="24061" y="14015"/>
                </a:cubicBezTo>
              </a:path>
              <a:path w="2953" h="1117">
                <a:moveTo>
                  <a:pt x="24209" y="13667"/>
                </a:moveTo>
                <a:cubicBezTo>
                  <a:pt x="24209" y="13753"/>
                  <a:pt x="24225" y="13831"/>
                  <a:pt x="24234" y="13915"/>
                </a:cubicBezTo>
                <a:cubicBezTo>
                  <a:pt x="24227" y="13819"/>
                  <a:pt x="24211" y="13736"/>
                  <a:pt x="24185" y="13643"/>
                </a:cubicBezTo>
              </a:path>
              <a:path w="2953" h="1117">
                <a:moveTo>
                  <a:pt x="24507" y="13593"/>
                </a:moveTo>
                <a:cubicBezTo>
                  <a:pt x="24420" y="13602"/>
                  <a:pt x="24431" y="13601"/>
                  <a:pt x="24358" y="13643"/>
                </a:cubicBezTo>
                <a:cubicBezTo>
                  <a:pt x="24458" y="13684"/>
                  <a:pt x="24545" y="13712"/>
                  <a:pt x="24631" y="13767"/>
                </a:cubicBezTo>
                <a:cubicBezTo>
                  <a:pt x="24589" y="13850"/>
                  <a:pt x="24531" y="13866"/>
                  <a:pt x="24433" y="13915"/>
                </a:cubicBezTo>
              </a:path>
              <a:path w="2953" h="1117">
                <a:moveTo>
                  <a:pt x="24482" y="13097"/>
                </a:moveTo>
                <a:cubicBezTo>
                  <a:pt x="24701" y="13169"/>
                  <a:pt x="24794" y="13319"/>
                  <a:pt x="24854" y="13543"/>
                </a:cubicBezTo>
                <a:cubicBezTo>
                  <a:pt x="24906" y="13738"/>
                  <a:pt x="24848" y="13922"/>
                  <a:pt x="24755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049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: (-2,4), (3,-1), (5,2), (-5,-4), (0,3), (-2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9040" y="6813720"/>
            <a:ext cx="98280" cy="36360"/>
          </a:xfrm>
          <a:custGeom>
            <a:avLst/>
            <a:gdLst/>
            <a:ahLst/>
            <a:rect l="l" t="t" r="r" b="b"/>
            <a:pathLst>
              <a:path w="274" h="100">
                <a:moveTo>
                  <a:pt x="10914" y="19025"/>
                </a:moveTo>
                <a:cubicBezTo>
                  <a:pt x="10939" y="19025"/>
                  <a:pt x="10947" y="19025"/>
                  <a:pt x="10964" y="19025"/>
                </a:cubicBezTo>
              </a:path>
              <a:path w="274" h="100">
                <a:moveTo>
                  <a:pt x="11162" y="18926"/>
                </a:moveTo>
                <a:cubicBezTo>
                  <a:pt x="11162" y="18951"/>
                  <a:pt x="11162" y="18959"/>
                  <a:pt x="11187" y="1895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62640" y="6581880"/>
            <a:ext cx="18720" cy="349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2675" y="18281"/>
                </a:moveTo>
                <a:cubicBezTo>
                  <a:pt x="12692" y="18306"/>
                  <a:pt x="12708" y="18330"/>
                  <a:pt x="12725" y="18355"/>
                </a:cubicBezTo>
              </a:path>
              <a:path w="51" h="100">
                <a:moveTo>
                  <a:pt x="12725" y="18306"/>
                </a:moveTo>
                <a:cubicBezTo>
                  <a:pt x="12703" y="18349"/>
                  <a:pt x="12690" y="18361"/>
                  <a:pt x="12725" y="183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30800" y="608184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2030" y="16892"/>
                </a:moveTo>
                <a:cubicBezTo>
                  <a:pt x="12030" y="16900"/>
                  <a:pt x="12030" y="16909"/>
                  <a:pt x="12030" y="169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720" y="613404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6003" y="17041"/>
                </a:moveTo>
                <a:cubicBezTo>
                  <a:pt x="6003" y="17049"/>
                  <a:pt x="6003" y="17058"/>
                  <a:pt x="6003" y="1706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69040" y="3963960"/>
            <a:ext cx="115920" cy="117360"/>
          </a:xfrm>
          <a:custGeom>
            <a:avLst/>
            <a:gdLst/>
            <a:ahLst/>
            <a:rect l="l" t="t" r="r" b="b"/>
            <a:pathLst>
              <a:path w="323" h="324">
                <a:moveTo>
                  <a:pt x="17587" y="11212"/>
                </a:moveTo>
                <a:cubicBezTo>
                  <a:pt x="17557" y="11107"/>
                  <a:pt x="17528" y="11132"/>
                  <a:pt x="17438" y="11187"/>
                </a:cubicBezTo>
                <a:cubicBezTo>
                  <a:pt x="17423" y="11361"/>
                  <a:pt x="17578" y="11418"/>
                  <a:pt x="17686" y="11237"/>
                </a:cubicBezTo>
                <a:cubicBezTo>
                  <a:pt x="17830" y="10994"/>
                  <a:pt x="17558" y="11064"/>
                  <a:pt x="17462" y="11137"/>
                </a:cubicBezTo>
                <a:cubicBezTo>
                  <a:pt x="17534" y="11240"/>
                  <a:pt x="17792" y="11267"/>
                  <a:pt x="17735" y="11063"/>
                </a:cubicBezTo>
                <a:cubicBezTo>
                  <a:pt x="17705" y="10956"/>
                  <a:pt x="17442" y="11022"/>
                  <a:pt x="17512" y="111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91160" y="3956040"/>
            <a:ext cx="635040" cy="401760"/>
          </a:xfrm>
          <a:custGeom>
            <a:avLst/>
            <a:gdLst/>
            <a:ahLst/>
            <a:rect l="l" t="t" r="r" b="b"/>
            <a:pathLst>
              <a:path w="1762" h="1118">
                <a:moveTo>
                  <a:pt x="18033" y="11757"/>
                </a:moveTo>
                <a:cubicBezTo>
                  <a:pt x="18083" y="12007"/>
                  <a:pt x="18040" y="12033"/>
                  <a:pt x="18256" y="12105"/>
                </a:cubicBezTo>
              </a:path>
              <a:path w="1762" h="1118">
                <a:moveTo>
                  <a:pt x="18281" y="11584"/>
                </a:moveTo>
                <a:cubicBezTo>
                  <a:pt x="18342" y="11562"/>
                  <a:pt x="18624" y="11426"/>
                  <a:pt x="18529" y="11633"/>
                </a:cubicBezTo>
                <a:cubicBezTo>
                  <a:pt x="18504" y="11658"/>
                  <a:pt x="18480" y="11683"/>
                  <a:pt x="18455" y="11708"/>
                </a:cubicBezTo>
                <a:cubicBezTo>
                  <a:pt x="18563" y="11708"/>
                  <a:pt x="18605" y="11710"/>
                  <a:pt x="18678" y="11733"/>
                </a:cubicBezTo>
                <a:cubicBezTo>
                  <a:pt x="18658" y="11894"/>
                  <a:pt x="18648" y="11947"/>
                  <a:pt x="18479" y="11981"/>
                </a:cubicBezTo>
              </a:path>
              <a:path w="1762" h="1118">
                <a:moveTo>
                  <a:pt x="19000" y="11757"/>
                </a:moveTo>
                <a:cubicBezTo>
                  <a:pt x="19069" y="11879"/>
                  <a:pt x="19135" y="11964"/>
                  <a:pt x="19149" y="12105"/>
                </a:cubicBezTo>
              </a:path>
              <a:path w="1762" h="1118">
                <a:moveTo>
                  <a:pt x="19000" y="11534"/>
                </a:moveTo>
                <a:cubicBezTo>
                  <a:pt x="19087" y="11517"/>
                  <a:pt x="19130" y="11490"/>
                  <a:pt x="19199" y="11435"/>
                </a:cubicBezTo>
              </a:path>
              <a:path w="1762" h="1118">
                <a:moveTo>
                  <a:pt x="19199" y="11261"/>
                </a:moveTo>
                <a:cubicBezTo>
                  <a:pt x="19291" y="11307"/>
                  <a:pt x="19358" y="11399"/>
                  <a:pt x="19422" y="11485"/>
                </a:cubicBezTo>
              </a:path>
              <a:path w="1762" h="1118">
                <a:moveTo>
                  <a:pt x="19323" y="10988"/>
                </a:moveTo>
                <a:cubicBezTo>
                  <a:pt x="19657" y="11089"/>
                  <a:pt x="19843" y="11103"/>
                  <a:pt x="19745" y="11485"/>
                </a:cubicBezTo>
                <a:cubicBezTo>
                  <a:pt x="19737" y="11510"/>
                  <a:pt x="19728" y="11534"/>
                  <a:pt x="19720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6040" y="2089080"/>
            <a:ext cx="650880" cy="411120"/>
          </a:xfrm>
          <a:custGeom>
            <a:avLst/>
            <a:gdLst/>
            <a:ahLst/>
            <a:rect l="l" t="t" r="r" b="b"/>
            <a:pathLst>
              <a:path w="1811" h="1142">
                <a:moveTo>
                  <a:pt x="20861" y="6276"/>
                </a:moveTo>
                <a:cubicBezTo>
                  <a:pt x="20840" y="6193"/>
                  <a:pt x="20822" y="6164"/>
                  <a:pt x="20737" y="6152"/>
                </a:cubicBezTo>
                <a:cubicBezTo>
                  <a:pt x="20737" y="6260"/>
                  <a:pt x="20796" y="6443"/>
                  <a:pt x="20935" y="6276"/>
                </a:cubicBezTo>
                <a:cubicBezTo>
                  <a:pt x="21066" y="6120"/>
                  <a:pt x="20757" y="6074"/>
                  <a:pt x="20786" y="6251"/>
                </a:cubicBezTo>
                <a:cubicBezTo>
                  <a:pt x="20809" y="6392"/>
                  <a:pt x="20875" y="6375"/>
                  <a:pt x="20935" y="6325"/>
                </a:cubicBezTo>
                <a:cubicBezTo>
                  <a:pt x="20901" y="6210"/>
                  <a:pt x="20912" y="6230"/>
                  <a:pt x="20786" y="6251"/>
                </a:cubicBezTo>
              </a:path>
              <a:path w="1811" h="1142">
                <a:moveTo>
                  <a:pt x="21109" y="6573"/>
                </a:moveTo>
                <a:cubicBezTo>
                  <a:pt x="21126" y="6664"/>
                  <a:pt x="21122" y="6965"/>
                  <a:pt x="21282" y="6945"/>
                </a:cubicBezTo>
                <a:cubicBezTo>
                  <a:pt x="21315" y="6929"/>
                  <a:pt x="21349" y="6912"/>
                  <a:pt x="21382" y="6896"/>
                </a:cubicBezTo>
              </a:path>
              <a:path w="1811" h="1142">
                <a:moveTo>
                  <a:pt x="21282" y="6548"/>
                </a:moveTo>
                <a:cubicBezTo>
                  <a:pt x="21260" y="6689"/>
                  <a:pt x="21424" y="6518"/>
                  <a:pt x="21530" y="6573"/>
                </a:cubicBezTo>
                <a:cubicBezTo>
                  <a:pt x="21749" y="6687"/>
                  <a:pt x="21443" y="6766"/>
                  <a:pt x="21357" y="6747"/>
                </a:cubicBezTo>
              </a:path>
              <a:path w="1811" h="1142">
                <a:moveTo>
                  <a:pt x="21233" y="6573"/>
                </a:moveTo>
                <a:cubicBezTo>
                  <a:pt x="21338" y="6495"/>
                  <a:pt x="21377" y="6466"/>
                  <a:pt x="21456" y="6424"/>
                </a:cubicBezTo>
              </a:path>
              <a:path w="1811" h="1142">
                <a:moveTo>
                  <a:pt x="21828" y="6598"/>
                </a:moveTo>
                <a:cubicBezTo>
                  <a:pt x="21873" y="6643"/>
                  <a:pt x="21890" y="6652"/>
                  <a:pt x="21878" y="6697"/>
                </a:cubicBezTo>
              </a:path>
              <a:path w="1811" h="1142">
                <a:moveTo>
                  <a:pt x="21828" y="6152"/>
                </a:moveTo>
                <a:cubicBezTo>
                  <a:pt x="21962" y="6141"/>
                  <a:pt x="22239" y="6083"/>
                  <a:pt x="22175" y="6325"/>
                </a:cubicBezTo>
                <a:cubicBezTo>
                  <a:pt x="22144" y="6442"/>
                  <a:pt x="22058" y="6416"/>
                  <a:pt x="21977" y="6400"/>
                </a:cubicBezTo>
                <a:cubicBezTo>
                  <a:pt x="22044" y="6288"/>
                  <a:pt x="22110" y="6280"/>
                  <a:pt x="22250" y="6276"/>
                </a:cubicBezTo>
                <a:cubicBezTo>
                  <a:pt x="22283" y="6276"/>
                  <a:pt x="22316" y="6276"/>
                  <a:pt x="22349" y="6276"/>
                </a:cubicBezTo>
              </a:path>
              <a:path w="1811" h="1142">
                <a:moveTo>
                  <a:pt x="22076" y="5804"/>
                </a:moveTo>
                <a:cubicBezTo>
                  <a:pt x="22309" y="5904"/>
                  <a:pt x="22595" y="6052"/>
                  <a:pt x="22547" y="6375"/>
                </a:cubicBezTo>
                <a:cubicBezTo>
                  <a:pt x="22522" y="6416"/>
                  <a:pt x="22498" y="6458"/>
                  <a:pt x="22473" y="64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4760" y="5473800"/>
            <a:ext cx="849240" cy="455400"/>
          </a:xfrm>
          <a:custGeom>
            <a:avLst/>
            <a:gdLst/>
            <a:ahLst/>
            <a:rect l="l" t="t" r="r" b="b"/>
            <a:pathLst>
              <a:path w="2358" h="1266">
                <a:moveTo>
                  <a:pt x="4539" y="15925"/>
                </a:moveTo>
                <a:cubicBezTo>
                  <a:pt x="4457" y="15852"/>
                  <a:pt x="4438" y="15839"/>
                  <a:pt x="4341" y="15850"/>
                </a:cubicBezTo>
                <a:cubicBezTo>
                  <a:pt x="4178" y="15868"/>
                  <a:pt x="4358" y="16037"/>
                  <a:pt x="4415" y="16073"/>
                </a:cubicBezTo>
                <a:cubicBezTo>
                  <a:pt x="4555" y="15955"/>
                  <a:pt x="4585" y="15884"/>
                  <a:pt x="4415" y="15776"/>
                </a:cubicBezTo>
                <a:cubicBezTo>
                  <a:pt x="4334" y="15865"/>
                  <a:pt x="4246" y="16133"/>
                  <a:pt x="4490" y="16073"/>
                </a:cubicBezTo>
                <a:cubicBezTo>
                  <a:pt x="4662" y="16030"/>
                  <a:pt x="4639" y="15951"/>
                  <a:pt x="4589" y="15850"/>
                </a:cubicBezTo>
                <a:cubicBezTo>
                  <a:pt x="4467" y="15872"/>
                  <a:pt x="4470" y="15873"/>
                  <a:pt x="4490" y="15974"/>
                </a:cubicBezTo>
                <a:cubicBezTo>
                  <a:pt x="4490" y="15991"/>
                  <a:pt x="4490" y="16007"/>
                  <a:pt x="4490" y="16024"/>
                </a:cubicBezTo>
              </a:path>
              <a:path w="2358" h="1266">
                <a:moveTo>
                  <a:pt x="4911" y="15875"/>
                </a:moveTo>
                <a:cubicBezTo>
                  <a:pt x="4921" y="16073"/>
                  <a:pt x="4920" y="16341"/>
                  <a:pt x="5110" y="16470"/>
                </a:cubicBezTo>
                <a:cubicBezTo>
                  <a:pt x="5197" y="16529"/>
                  <a:pt x="5240" y="16358"/>
                  <a:pt x="5259" y="16321"/>
                </a:cubicBezTo>
              </a:path>
              <a:path w="2358" h="1266">
                <a:moveTo>
                  <a:pt x="5159" y="15974"/>
                </a:moveTo>
                <a:cubicBezTo>
                  <a:pt x="5232" y="15998"/>
                  <a:pt x="5256" y="16007"/>
                  <a:pt x="5308" y="15999"/>
                </a:cubicBezTo>
              </a:path>
              <a:path w="2358" h="1266">
                <a:moveTo>
                  <a:pt x="5308" y="15900"/>
                </a:moveTo>
                <a:cubicBezTo>
                  <a:pt x="5300" y="15925"/>
                  <a:pt x="5291" y="15949"/>
                  <a:pt x="5283" y="15974"/>
                </a:cubicBezTo>
                <a:cubicBezTo>
                  <a:pt x="5373" y="15965"/>
                  <a:pt x="5626" y="15850"/>
                  <a:pt x="5631" y="15999"/>
                </a:cubicBezTo>
                <a:cubicBezTo>
                  <a:pt x="5610" y="16083"/>
                  <a:pt x="5615" y="16109"/>
                  <a:pt x="5556" y="16123"/>
                </a:cubicBezTo>
              </a:path>
              <a:path w="2358" h="1266">
                <a:moveTo>
                  <a:pt x="5283" y="15825"/>
                </a:moveTo>
                <a:cubicBezTo>
                  <a:pt x="5350" y="15759"/>
                  <a:pt x="5366" y="15743"/>
                  <a:pt x="5407" y="15701"/>
                </a:cubicBezTo>
              </a:path>
              <a:path w="2358" h="1266">
                <a:moveTo>
                  <a:pt x="5779" y="15900"/>
                </a:moveTo>
                <a:cubicBezTo>
                  <a:pt x="5844" y="16008"/>
                  <a:pt x="5859" y="16034"/>
                  <a:pt x="5904" y="16098"/>
                </a:cubicBezTo>
              </a:path>
              <a:path w="2358" h="1266">
                <a:moveTo>
                  <a:pt x="5904" y="15726"/>
                </a:moveTo>
                <a:cubicBezTo>
                  <a:pt x="5950" y="15657"/>
                  <a:pt x="5962" y="15637"/>
                  <a:pt x="6003" y="15602"/>
                </a:cubicBezTo>
              </a:path>
              <a:path w="2358" h="1266">
                <a:moveTo>
                  <a:pt x="6003" y="15528"/>
                </a:moveTo>
                <a:cubicBezTo>
                  <a:pt x="6126" y="15683"/>
                  <a:pt x="6175" y="15603"/>
                  <a:pt x="6300" y="15478"/>
                </a:cubicBezTo>
              </a:path>
              <a:path w="2358" h="1266">
                <a:moveTo>
                  <a:pt x="6152" y="15304"/>
                </a:moveTo>
                <a:cubicBezTo>
                  <a:pt x="6228" y="15466"/>
                  <a:pt x="6321" y="15567"/>
                  <a:pt x="6424" y="15701"/>
                </a:cubicBezTo>
              </a:path>
              <a:path w="2358" h="1266">
                <a:moveTo>
                  <a:pt x="6127" y="15205"/>
                </a:moveTo>
                <a:cubicBezTo>
                  <a:pt x="6362" y="15307"/>
                  <a:pt x="6693" y="15399"/>
                  <a:pt x="6648" y="15726"/>
                </a:cubicBezTo>
                <a:cubicBezTo>
                  <a:pt x="6631" y="15759"/>
                  <a:pt x="6615" y="15792"/>
                  <a:pt x="6598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27720" y="1625760"/>
            <a:ext cx="63360" cy="88920"/>
          </a:xfrm>
          <a:custGeom>
            <a:avLst/>
            <a:gdLst/>
            <a:ahLst/>
            <a:rect l="l" t="t" r="r" b="b"/>
            <a:pathLst>
              <a:path w="175" h="249">
                <a:moveTo>
                  <a:pt x="12601" y="4638"/>
                </a:moveTo>
                <a:cubicBezTo>
                  <a:pt x="12626" y="4768"/>
                  <a:pt x="12743" y="4755"/>
                  <a:pt x="12750" y="4614"/>
                </a:cubicBezTo>
                <a:cubicBezTo>
                  <a:pt x="12759" y="4420"/>
                  <a:pt x="12490" y="4585"/>
                  <a:pt x="12626" y="4663"/>
                </a:cubicBezTo>
                <a:cubicBezTo>
                  <a:pt x="12659" y="4663"/>
                  <a:pt x="12692" y="4663"/>
                  <a:pt x="12725" y="4663"/>
                </a:cubicBezTo>
                <a:cubicBezTo>
                  <a:pt x="12761" y="4533"/>
                  <a:pt x="12653" y="4422"/>
                  <a:pt x="12576" y="4589"/>
                </a:cubicBezTo>
                <a:cubicBezTo>
                  <a:pt x="12537" y="4673"/>
                  <a:pt x="12598" y="4731"/>
                  <a:pt x="12650" y="4762"/>
                </a:cubicBezTo>
                <a:cubicBezTo>
                  <a:pt x="12725" y="4642"/>
                  <a:pt x="12658" y="4474"/>
                  <a:pt x="12601" y="4638"/>
                </a:cubicBezTo>
                <a:cubicBezTo>
                  <a:pt x="12601" y="4663"/>
                  <a:pt x="12601" y="4688"/>
                  <a:pt x="12601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59200" y="1303200"/>
            <a:ext cx="527040" cy="492120"/>
          </a:xfrm>
          <a:custGeom>
            <a:avLst/>
            <a:gdLst/>
            <a:ahLst/>
            <a:rect l="l" t="t" r="r" b="b"/>
            <a:pathLst>
              <a:path w="1464" h="1366">
                <a:moveTo>
                  <a:pt x="13246" y="4341"/>
                </a:moveTo>
                <a:cubicBezTo>
                  <a:pt x="13210" y="4484"/>
                  <a:pt x="13182" y="4814"/>
                  <a:pt x="13295" y="4936"/>
                </a:cubicBezTo>
                <a:cubicBezTo>
                  <a:pt x="13345" y="4953"/>
                  <a:pt x="13394" y="4969"/>
                  <a:pt x="13444" y="4986"/>
                </a:cubicBezTo>
              </a:path>
              <a:path w="1464" h="1366">
                <a:moveTo>
                  <a:pt x="13519" y="4316"/>
                </a:moveTo>
                <a:cubicBezTo>
                  <a:pt x="13509" y="4469"/>
                  <a:pt x="13541" y="4530"/>
                  <a:pt x="13618" y="4663"/>
                </a:cubicBezTo>
                <a:cubicBezTo>
                  <a:pt x="13725" y="4618"/>
                  <a:pt x="13900" y="4438"/>
                  <a:pt x="13717" y="4316"/>
                </a:cubicBezTo>
                <a:cubicBezTo>
                  <a:pt x="13616" y="4296"/>
                  <a:pt x="13596" y="4277"/>
                  <a:pt x="13543" y="4316"/>
                </a:cubicBezTo>
              </a:path>
              <a:path w="1464" h="1366">
                <a:moveTo>
                  <a:pt x="14015" y="4465"/>
                </a:moveTo>
                <a:cubicBezTo>
                  <a:pt x="14071" y="4540"/>
                  <a:pt x="14075" y="4553"/>
                  <a:pt x="14114" y="4589"/>
                </a:cubicBezTo>
              </a:path>
              <a:path w="1464" h="1366">
                <a:moveTo>
                  <a:pt x="13990" y="3894"/>
                </a:moveTo>
                <a:cubicBezTo>
                  <a:pt x="14088" y="3870"/>
                  <a:pt x="14286" y="3773"/>
                  <a:pt x="14238" y="3969"/>
                </a:cubicBezTo>
                <a:cubicBezTo>
                  <a:pt x="14221" y="4002"/>
                  <a:pt x="14205" y="4035"/>
                  <a:pt x="14188" y="4068"/>
                </a:cubicBezTo>
                <a:cubicBezTo>
                  <a:pt x="14282" y="3998"/>
                  <a:pt x="14308" y="3976"/>
                  <a:pt x="14387" y="3969"/>
                </a:cubicBezTo>
                <a:cubicBezTo>
                  <a:pt x="14427" y="4099"/>
                  <a:pt x="14429" y="4194"/>
                  <a:pt x="14288" y="4266"/>
                </a:cubicBezTo>
                <a:cubicBezTo>
                  <a:pt x="14255" y="4274"/>
                  <a:pt x="14221" y="4283"/>
                  <a:pt x="14188" y="4291"/>
                </a:cubicBezTo>
              </a:path>
              <a:path w="1464" h="1366">
                <a:moveTo>
                  <a:pt x="14188" y="3621"/>
                </a:moveTo>
                <a:cubicBezTo>
                  <a:pt x="14441" y="3660"/>
                  <a:pt x="14619" y="3749"/>
                  <a:pt x="14684" y="4018"/>
                </a:cubicBezTo>
                <a:cubicBezTo>
                  <a:pt x="14684" y="4204"/>
                  <a:pt x="14692" y="4259"/>
                  <a:pt x="14585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0720" y="3402000"/>
            <a:ext cx="80640" cy="8100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9401" y="9550"/>
                </a:moveTo>
                <a:cubicBezTo>
                  <a:pt x="9350" y="9465"/>
                  <a:pt x="9289" y="9397"/>
                  <a:pt x="9252" y="9525"/>
                </a:cubicBezTo>
                <a:cubicBezTo>
                  <a:pt x="9286" y="9712"/>
                  <a:pt x="9384" y="9633"/>
                  <a:pt x="9475" y="9500"/>
                </a:cubicBezTo>
                <a:cubicBezTo>
                  <a:pt x="9475" y="9457"/>
                  <a:pt x="9458" y="9444"/>
                  <a:pt x="9401" y="9451"/>
                </a:cubicBezTo>
                <a:cubicBezTo>
                  <a:pt x="9299" y="9475"/>
                  <a:pt x="9180" y="9635"/>
                  <a:pt x="9376" y="9674"/>
                </a:cubicBezTo>
                <a:cubicBezTo>
                  <a:pt x="9498" y="9698"/>
                  <a:pt x="9510" y="9481"/>
                  <a:pt x="9401" y="9475"/>
                </a:cubicBezTo>
                <a:cubicBezTo>
                  <a:pt x="9301" y="9469"/>
                  <a:pt x="9359" y="9586"/>
                  <a:pt x="9376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83000" y="2776680"/>
            <a:ext cx="544320" cy="528480"/>
          </a:xfrm>
          <a:custGeom>
            <a:avLst/>
            <a:gdLst/>
            <a:ahLst/>
            <a:rect l="l" t="t" r="r" b="b"/>
            <a:pathLst>
              <a:path w="1514" h="1465">
                <a:moveTo>
                  <a:pt x="9723" y="8533"/>
                </a:moveTo>
                <a:cubicBezTo>
                  <a:pt x="9688" y="8730"/>
                  <a:pt x="9599" y="8972"/>
                  <a:pt x="9748" y="9153"/>
                </a:cubicBezTo>
                <a:cubicBezTo>
                  <a:pt x="9861" y="9181"/>
                  <a:pt x="9906" y="9182"/>
                  <a:pt x="9971" y="9103"/>
                </a:cubicBezTo>
              </a:path>
              <a:path w="1514" h="1465">
                <a:moveTo>
                  <a:pt x="9922" y="8682"/>
                </a:moveTo>
                <a:cubicBezTo>
                  <a:pt x="9976" y="8627"/>
                  <a:pt x="9998" y="8607"/>
                  <a:pt x="10046" y="8582"/>
                </a:cubicBezTo>
              </a:path>
              <a:path w="1514" h="1465">
                <a:moveTo>
                  <a:pt x="10021" y="8483"/>
                </a:moveTo>
                <a:cubicBezTo>
                  <a:pt x="10049" y="8416"/>
                  <a:pt x="10115" y="8228"/>
                  <a:pt x="10220" y="8334"/>
                </a:cubicBezTo>
                <a:cubicBezTo>
                  <a:pt x="10312" y="8427"/>
                  <a:pt x="10269" y="8588"/>
                  <a:pt x="10269" y="8706"/>
                </a:cubicBezTo>
                <a:cubicBezTo>
                  <a:pt x="10367" y="8674"/>
                  <a:pt x="10411" y="8614"/>
                  <a:pt x="10492" y="8533"/>
                </a:cubicBezTo>
              </a:path>
              <a:path w="1514" h="1465">
                <a:moveTo>
                  <a:pt x="10641" y="8409"/>
                </a:moveTo>
                <a:cubicBezTo>
                  <a:pt x="10706" y="8517"/>
                  <a:pt x="10721" y="8543"/>
                  <a:pt x="10765" y="8607"/>
                </a:cubicBezTo>
              </a:path>
              <a:path w="1514" h="1465">
                <a:moveTo>
                  <a:pt x="10641" y="8012"/>
                </a:moveTo>
                <a:cubicBezTo>
                  <a:pt x="10613" y="8170"/>
                  <a:pt x="10608" y="8181"/>
                  <a:pt x="10691" y="8310"/>
                </a:cubicBezTo>
                <a:cubicBezTo>
                  <a:pt x="10829" y="8249"/>
                  <a:pt x="11029" y="8116"/>
                  <a:pt x="10790" y="8012"/>
                </a:cubicBezTo>
                <a:cubicBezTo>
                  <a:pt x="10749" y="8004"/>
                  <a:pt x="10707" y="7995"/>
                  <a:pt x="10666" y="7987"/>
                </a:cubicBezTo>
              </a:path>
              <a:path w="1514" h="1465">
                <a:moveTo>
                  <a:pt x="10542" y="7714"/>
                </a:moveTo>
                <a:cubicBezTo>
                  <a:pt x="10867" y="7749"/>
                  <a:pt x="11254" y="7810"/>
                  <a:pt x="11187" y="8260"/>
                </a:cubicBezTo>
                <a:cubicBezTo>
                  <a:pt x="11154" y="8318"/>
                  <a:pt x="11121" y="8376"/>
                  <a:pt x="11088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13080" y="1017720"/>
            <a:ext cx="81000" cy="11736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9302" y="3051"/>
                </a:moveTo>
                <a:cubicBezTo>
                  <a:pt x="9236" y="2972"/>
                  <a:pt x="9252" y="2986"/>
                  <a:pt x="9203" y="3076"/>
                </a:cubicBezTo>
                <a:cubicBezTo>
                  <a:pt x="9290" y="3176"/>
                  <a:pt x="9469" y="3110"/>
                  <a:pt x="9426" y="2927"/>
                </a:cubicBezTo>
                <a:cubicBezTo>
                  <a:pt x="9394" y="2790"/>
                  <a:pt x="9133" y="2903"/>
                  <a:pt x="9203" y="3051"/>
                </a:cubicBezTo>
                <a:cubicBezTo>
                  <a:pt x="9303" y="3261"/>
                  <a:pt x="9395" y="2928"/>
                  <a:pt x="9401" y="2877"/>
                </a:cubicBezTo>
                <a:cubicBezTo>
                  <a:pt x="9183" y="2805"/>
                  <a:pt x="9236" y="2981"/>
                  <a:pt x="9277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4080" y="1285920"/>
            <a:ext cx="115920" cy="196920"/>
          </a:xfrm>
          <a:custGeom>
            <a:avLst/>
            <a:gdLst/>
            <a:ahLst/>
            <a:rect l="l" t="t" r="r" b="b"/>
            <a:pathLst>
              <a:path w="323" h="547">
                <a:moveTo>
                  <a:pt x="9426" y="3572"/>
                </a:moveTo>
                <a:cubicBezTo>
                  <a:pt x="9437" y="3714"/>
                  <a:pt x="9428" y="4106"/>
                  <a:pt x="9649" y="4118"/>
                </a:cubicBezTo>
                <a:cubicBezTo>
                  <a:pt x="9682" y="4101"/>
                  <a:pt x="9715" y="4085"/>
                  <a:pt x="9748" y="40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0920" y="1303200"/>
            <a:ext cx="46080" cy="36720"/>
          </a:xfrm>
          <a:custGeom>
            <a:avLst/>
            <a:gdLst/>
            <a:ahLst/>
            <a:rect l="l" t="t" r="r" b="b"/>
            <a:pathLst>
              <a:path w="125" h="101">
                <a:moveTo>
                  <a:pt x="9699" y="3721"/>
                </a:moveTo>
                <a:cubicBezTo>
                  <a:pt x="9753" y="3666"/>
                  <a:pt x="9775" y="3646"/>
                  <a:pt x="9823" y="36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27280" y="1214280"/>
            <a:ext cx="169920" cy="125640"/>
          </a:xfrm>
          <a:custGeom>
            <a:avLst/>
            <a:gdLst/>
            <a:ahLst/>
            <a:rect l="l" t="t" r="r" b="b"/>
            <a:pathLst>
              <a:path w="472" h="349">
                <a:moveTo>
                  <a:pt x="9798" y="3423"/>
                </a:moveTo>
                <a:cubicBezTo>
                  <a:pt x="9886" y="3379"/>
                  <a:pt x="9907" y="3362"/>
                  <a:pt x="9971" y="3373"/>
                </a:cubicBezTo>
                <a:cubicBezTo>
                  <a:pt x="10062" y="3502"/>
                  <a:pt x="10040" y="3569"/>
                  <a:pt x="9996" y="3721"/>
                </a:cubicBezTo>
                <a:cubicBezTo>
                  <a:pt x="10095" y="3659"/>
                  <a:pt x="10176" y="3594"/>
                  <a:pt x="10269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41840" y="1224000"/>
            <a:ext cx="63360" cy="61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10393" y="3398"/>
                </a:moveTo>
                <a:cubicBezTo>
                  <a:pt x="10476" y="3481"/>
                  <a:pt x="10509" y="3514"/>
                  <a:pt x="10567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5120" y="1098720"/>
            <a:ext cx="108000" cy="5364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0294" y="3051"/>
                </a:moveTo>
                <a:cubicBezTo>
                  <a:pt x="10348" y="3172"/>
                  <a:pt x="10371" y="3247"/>
                  <a:pt x="10517" y="3150"/>
                </a:cubicBezTo>
                <a:cubicBezTo>
                  <a:pt x="10542" y="3125"/>
                  <a:pt x="10567" y="3101"/>
                  <a:pt x="10592" y="30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8840" y="1035000"/>
            <a:ext cx="106200" cy="152280"/>
          </a:xfrm>
          <a:custGeom>
            <a:avLst/>
            <a:gdLst/>
            <a:ahLst/>
            <a:rect l="l" t="t" r="r" b="b"/>
            <a:pathLst>
              <a:path w="298" h="423">
                <a:moveTo>
                  <a:pt x="10468" y="2877"/>
                </a:moveTo>
                <a:cubicBezTo>
                  <a:pt x="10529" y="2994"/>
                  <a:pt x="10633" y="3243"/>
                  <a:pt x="10765" y="3299"/>
                </a:cubicBezTo>
                <a:cubicBezTo>
                  <a:pt x="10765" y="3291"/>
                  <a:pt x="10765" y="3282"/>
                  <a:pt x="10765" y="32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4840" y="973080"/>
            <a:ext cx="268200" cy="250920"/>
          </a:xfrm>
          <a:custGeom>
            <a:avLst/>
            <a:gdLst/>
            <a:ahLst/>
            <a:rect l="l" t="t" r="r" b="b"/>
            <a:pathLst>
              <a:path w="745" h="695">
                <a:moveTo>
                  <a:pt x="10319" y="2704"/>
                </a:moveTo>
                <a:cubicBezTo>
                  <a:pt x="10612" y="2761"/>
                  <a:pt x="10944" y="2801"/>
                  <a:pt x="11063" y="3125"/>
                </a:cubicBezTo>
                <a:cubicBezTo>
                  <a:pt x="11063" y="3277"/>
                  <a:pt x="11061" y="3329"/>
                  <a:pt x="10964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0" y="374760"/>
            <a:ext cx="936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74" y="1042"/>
                </a:moveTo>
                <a:cubicBezTo>
                  <a:pt x="74" y="1067"/>
                  <a:pt x="74" y="1075"/>
                  <a:pt x="99" y="10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zz Worksheet E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raphing Ordered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5240" y="6510240"/>
            <a:ext cx="1800" cy="7920"/>
          </a:xfrm>
          <a:custGeom>
            <a:avLst/>
            <a:gdLst/>
            <a:ahLst/>
            <a:rect l="l" t="t" r="r" b="b"/>
            <a:pathLst>
              <a:path w="1" h="25">
                <a:moveTo>
                  <a:pt x="2208" y="18083"/>
                </a:moveTo>
                <a:cubicBezTo>
                  <a:pt x="2208" y="18091"/>
                  <a:pt x="2208" y="18099"/>
                  <a:pt x="2208" y="1810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7:37:32Z</dcterms:created>
  <dc:creator>ccps</dc:creator>
  <dc:description/>
  <dc:language>en-US</dc:language>
  <cp:lastModifiedBy>deanne elizabeth mcgrath</cp:lastModifiedBy>
  <dcterms:modified xsi:type="dcterms:W3CDTF">2010-12-21T18:35:25Z</dcterms:modified>
  <cp:revision>13</cp:revision>
  <dc:subject/>
  <dc:title>Obj 2.8  To identify and plot points on a coordinate plane.</dc:title>
</cp:coreProperties>
</file>